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12.xml" ContentType="application/vnd.openxmlformats-officedocument.theme+xml"/>
  <Override PartName="/ppt/theme/theme36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7.wmf" ContentType="image/x-wmf"/>
  <Override PartName="/ppt/media/image9.png" ContentType="image/png"/>
  <Override PartName="/ppt/media/start.wav" ContentType="audio/x-wav"/>
  <Override PartName="/ppt/media/image13.png" ContentType="image/png"/>
  <Override PartName="/ppt/media/image17.gif" ContentType="image/gif"/>
  <Override PartName="/ppt/media/image3.png" ContentType="image/png"/>
  <Override PartName="/ppt/media/image16.jpeg" ContentType="image/jpeg"/>
  <Override PartName="/ppt/media/image15.gif" ContentType="image/gif"/>
  <Override PartName="/ppt/media/image1.png" ContentType="image/png"/>
  <Override PartName="/ppt/media/image14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11.png" ContentType="image/png"/>
  <Override PartName="/ppt/media/image10.wmf" ContentType="image/x-wmf"/>
  <Override PartName="/ppt/media/image2.png" ContentType="image/png"/>
  <Override PartName="/ppt/media/image8.png" ContentType="image/png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39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431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</p:sldMasterIdLst>
  <p:sldIdLst>
    <p:sldId id="256" r:id="rId38"/>
    <p:sldId id="257" r:id="rId39"/>
    <p:sldId id="258" r:id="rId40"/>
    <p:sldId id="259" r:id="rId41"/>
    <p:sldId id="260" r:id="rId42"/>
    <p:sldId id="261" r:id="rId43"/>
    <p:sldId id="262" r:id="rId44"/>
    <p:sldId id="263" r:id="rId45"/>
    <p:sldId id="264" r:id="rId46"/>
    <p:sldId id="265" r:id="rId47"/>
    <p:sldId id="266" r:id="rId48"/>
    <p:sldId id="267" r:id="rId49"/>
    <p:sldId id="268" r:id="rId50"/>
  </p:sldIdLst>
  <p:sldSz cx="9144000" cy="6858000"/>
  <p:notesSz cx="6796088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" Target="slides/slide1.xml"/><Relationship Id="rId39" Type="http://schemas.openxmlformats.org/officeDocument/2006/relationships/slide" Target="slides/slide2.xml"/><Relationship Id="rId40" Type="http://schemas.openxmlformats.org/officeDocument/2006/relationships/slide" Target="slides/slide3.xml"/><Relationship Id="rId41" Type="http://schemas.openxmlformats.org/officeDocument/2006/relationships/slide" Target="slides/slide4.xml"/><Relationship Id="rId42" Type="http://schemas.openxmlformats.org/officeDocument/2006/relationships/slide" Target="slides/slide5.xml"/><Relationship Id="rId43" Type="http://schemas.openxmlformats.org/officeDocument/2006/relationships/slide" Target="slides/slide6.xml"/><Relationship Id="rId44" Type="http://schemas.openxmlformats.org/officeDocument/2006/relationships/slide" Target="slides/slide7.xml"/><Relationship Id="rId45" Type="http://schemas.openxmlformats.org/officeDocument/2006/relationships/slide" Target="slides/slide8.xml"/><Relationship Id="rId46" Type="http://schemas.openxmlformats.org/officeDocument/2006/relationships/slide" Target="slides/slide9.xml"/><Relationship Id="rId47" Type="http://schemas.openxmlformats.org/officeDocument/2006/relationships/slide" Target="slides/slide10.xml"/><Relationship Id="rId48" Type="http://schemas.openxmlformats.org/officeDocument/2006/relationships/slide" Target="slides/slide11.xml"/><Relationship Id="rId49" Type="http://schemas.openxmlformats.org/officeDocument/2006/relationships/slide" Target="slides/slide12.xml"/><Relationship Id="rId50" Type="http://schemas.openxmlformats.org/officeDocument/2006/relationships/slide" Target="slides/slide13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4B7FBD-BD22-4CF9-BFC9-62D1E149957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BC9BBD-9A89-42DA-A51F-8706ADFAF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CF8E893-F794-4907-99B6-2236ED1C9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50DEEE3-F831-407D-861F-9BB449C3D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95F87DD-FB6C-46E9-A739-6B6E96903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A823418-32B9-45E1-BFAE-9B3C43D1A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0D3A20F-475A-49C9-818D-F7545F8FD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BE253F8-563E-445C-9C81-0CD514A66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5477C00-AF8A-46F8-9416-59E2CA548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8B03D82-ABAA-4164-AE16-1749F74D2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ED37280-4E0C-4511-88DD-680F185E167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42DEE7-B27A-44FE-92B8-9D92021ED7C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3491BE-92B7-42C5-928D-FCCAD6CE7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AD3B33-E518-484E-A1BC-9C50D19DC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B4569B-3B35-4BBE-8D45-404245304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8087C7-58D4-4CBD-AFC8-3484B7E11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C905DE-FEC5-4293-BD5F-8BADA68CD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0F958F-0661-482C-B225-79D89A2B1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17D197-A993-43B4-A03D-2EBE6BDDF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3ED3B5-1FDC-4D45-8064-3A0CD1016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239E06-A94E-4652-AEB1-4FA965C20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93E040-B6B5-45CB-892E-C19F967B3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5BC85E-BC32-49AA-899D-F37DF7978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57524B-D065-4CE3-8258-2C52D46C743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B48555-F698-458B-8E56-05FB871D645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7E7AE3A-D3EF-401E-9D58-5B6A8648622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E8F5B93-FDFA-4D27-B0C5-9D3A10B56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C7578F5-15BD-4C60-B5EA-676F9B3FA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5D5A7F9-73F3-4508-9302-4BE7F61BC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B7F3107-1C15-407A-B4C7-7001F3DC8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98D00AF-0758-4C3D-99EE-97405054B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DAE362F-2C18-470E-BAA5-AE7156C8F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0FBD1CD-D511-4924-9DFA-5D2FA53D5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EA7CC13-C792-4195-8FE8-200382F3A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D2D952-8DEA-43D5-ADDF-8ACE7F52474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C408E0A-F8C8-4D48-8A5D-8E6440B62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4635332-B7F4-4F53-B79F-041F8D938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A7BE753-5A8E-42C8-82C6-197BFAD0AE8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78A2903-6B0F-4527-8283-56B148C0A15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F75F9A8-C6AA-40BE-8398-F12F0D7E7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6F621B0-7CE9-4D5B-B36A-1439C0660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74B2F2D-3133-4F2C-B76C-CDDBD4ABF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93B340D-B32B-4F88-BBA8-71C2B73B1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E2A73A6-515E-4617-8285-912C0144F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AA52DC8-2A28-4BD0-9214-B1698C900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BE825E-AD61-4F1E-AA0E-1C7CBBDF2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D41EF36-7700-4D0B-8E75-6144BAFC5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14DD432-068B-4116-9D0A-A120A3D03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6AF94A9-D2D6-4A12-9F9B-2F22A69D1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48CB1FA-EC99-4104-A400-5AEF781EA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5C5733F-177C-43F6-8143-487499F1D71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B00D6C-7E88-413A-B3D7-6027AF339BF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3BC9B2-FEFA-4685-95A2-4D9BE0EF8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D41D5D-4388-4738-A05A-9EFD20DDF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6A91C7-1F23-4F34-865F-E8ADFCAF4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654E54-42E1-4BF5-90E9-D13AF0D7C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462F70-AF2D-42E4-B667-3C10E9322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CD8E73-8001-48D0-83D0-3BE55397E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C14793-D36E-4E62-8151-6CEECAA1D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355968-E1EE-4CEF-B4E8-14C175CEC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24A8FA-D83D-4110-969F-54E2E2224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EDBFF9-85A3-4CED-880D-D15221E6E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906D5B-E0FE-4645-9C7F-4DFF4557E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CDBE76-FD20-48C4-8195-865B37C4DC4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54F4129-4566-45B1-8136-D5317A35100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ACC5302-65AD-4CF4-AE55-C53FA4A17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DD64003-CD28-4252-970F-77B9C5171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BB5AD2-E384-45EE-B801-44AC86D53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7A94839-B2E0-4226-819B-D5CCF105F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BB99EAD-DFFD-4651-B4C2-985C8153A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29531E5-5476-49F8-BCDD-9B2442D57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0884A80-EA33-4591-A943-F9E886186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BAC9B9E-B2B9-4076-8ECA-B8977104D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F685B7B-53CB-44F7-9BB6-A2BC3DA08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FBE78AC-43D4-4705-960C-BCB2C94F8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73D3730-1ACA-4D33-B367-120D19A4E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CE33210-E518-4E26-893D-6DC081307BC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B191C3F-5420-4CB2-9C5A-DF552AEC04C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7063FC-D2BD-4746-B83F-384D98632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2B29829-510C-46DA-A695-F21D5DE37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F0B6F78-79A8-4D9D-85CE-F9B3DBC2F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6F3941D-2B36-4BFB-ADEC-2530DB046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032D29D-06B6-4B89-8C97-3B4C5ABC5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F6B385E-C71A-4C48-882D-2EEC9C4CA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81E6440-F8BE-46B2-AA3F-483A6E536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8A59452-E269-4008-A2AE-6137E8D1F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F058BEF-BA1E-45B8-90E1-7FE71A665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A231664-F6EA-48D8-BDC5-C6B736FA8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BCD3B8D-EC02-40AB-8406-6E3310830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FCE34B-D69C-4A82-A60A-A2EF9598D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F250F39-3F97-496D-BA3E-1A3C89A4228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8768D2-D643-4268-9CDC-3A5B507CB9A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79C284-E2E6-4734-A27E-394608F26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8951B5-07C6-48EE-896A-4DB42EB6A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AF9B6D-83C0-46A4-B3A9-E7AC2B829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CAEE75-0143-4FEB-8DEC-B9FD10463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EAF498-1E21-425B-B44F-BFB619C8D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49D25C-E321-4B6C-99E9-C8AD16014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F02CB4-746C-4880-A831-E68D2EFB3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F61377-07CC-4F79-A651-084BA6807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B88D8C-BA88-4FF6-B001-490CE7FDA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ACC850-950B-44A3-B9C9-3DCD84E6F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0ACBA0-04BF-4738-8659-970859164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B49F42-760D-4E06-B6A4-6D4BF81D812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6AE7F0B-0E5A-463A-989A-C04E54B3EDF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E998AE5-3C0C-4BFD-BB56-83B727972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E9B0427-E687-4720-8F44-81AB86F00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47751F0-6EBA-42D9-8A6C-02B1828F7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9AA2BF4-E7DE-4BFA-B456-59DA1EB05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E42D2B9-CF43-4620-ADC0-64D3DC39B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6EF5CD5-1ACB-410D-B0A7-18E9545BE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B913E7-14B1-4692-98A0-96B78D08F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AFA151-F719-43C9-94A8-999C63515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5890AEC-9D7C-4149-B0FC-C3CCCB993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74AA4AA-9312-457A-BBA1-E188131E1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C3C7C2B-016B-4B56-8A04-B7E4D4B32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7A9554D-5C0C-434E-BAE5-840264B0C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F6EADB9-D241-427F-9E93-486DD2E14A0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1FC2B2C1-75A6-4019-B807-249577F82A3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7CAE9FAF-1689-474E-B15A-F7399D772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E8F8FA0A-24B7-4293-8B9E-4B78065E3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6E1E1FFF-3916-4A80-9197-F4BC5BB02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02A83A2A-D6BF-4189-92EE-CC582A2FC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689561-2855-483D-8A3B-64D1C4CB0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547BA059-7051-4271-B442-D4F9658F6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95088486-1EF2-4E20-B974-ACD4B2768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FD9A05CA-9CA1-44DB-B88B-A9FC64DCF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4B19FF52-2C33-4913-B667-9835A2EBC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03982B8B-A5A8-4751-B83F-C31A1EF29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A2092218-B791-4FC2-BF1B-BE7983F31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280FDAC6-B1CA-4712-BF9F-4C0A58FDF8B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2E0C58F-1913-48DF-82CE-C822006246C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8B49AE0-8D34-4F78-9C62-315EEE3E9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A4182F9-C1DF-4FD8-9CC3-A66FD4A64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5B6AA1-0DCB-4479-A6A1-09F70E912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820E68B-3F31-4DF5-8704-5551E6B42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58256C6-096C-4A24-B7A0-47230B6CC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AFB529E-5693-4883-A588-1E3354A86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400320D-D298-4216-B1C6-791B25664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2A5238D-69C8-4698-B0D0-DD3038D8D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AEA7302-3752-4DA4-9701-67C4AE094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4BD6981-663D-4782-9FC7-C29442DCD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6065D38-4F77-4D6F-81CB-501972ACB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8F07196-5D9B-454D-A0BE-CCD30E18355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1165DE9E-E159-4583-8980-2312071F6D5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52778A-ED46-4387-9B6A-878DAF8CC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D06ECEC0-BF7E-4E4C-A072-6746D9F9E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23C2904B-14F0-4794-879A-E4991AF0E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5CE2830D-133A-4F21-ABEB-C3244CB1F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F8AC98B0-BB7E-418B-8F0B-ACFC7288C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C349CAC2-6E0A-420E-8EC8-4CF73D043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3D397AF1-0F70-4CB5-AF35-B74C6DF47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605263D4-307C-452E-BFC4-7F1E58F10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85778CF5-4CD5-4BF6-9410-187E08320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E5FE68B6-BCB3-4EB3-8D5F-E8A2A1E4C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797A889F-CB11-4426-B23E-5E88E7FA0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4B798C-DC13-4E4C-AF89-7023F939D5C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23AEA38E-A08F-4269-83DE-D251038AF4A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EC0ED9A8-3EA4-485D-A11C-60483956D05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026BA40B-0760-4FA8-AAFD-C5912B929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740C3187-1B1B-4834-869F-F784E6CA2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22A40D4E-6F13-4A92-B562-168F99538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8D25685F-0E41-4214-AC7E-CC8E2B1D3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8A5F442D-BADA-4B96-BF15-89FCB22BF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9330F252-2114-4E23-BF39-F38230AE4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633960DF-0BB3-4995-B149-27DCD6414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50E41CC9-896A-4E8C-8061-E3F6B0E5E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CD1EF42-8E2E-4D5B-88B0-D4E9F3D35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67F1B875-C3BA-4AF0-8124-83743121F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2BA80874-3408-47E0-B32A-0BC17640E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FCF098F6-3794-4E00-8D60-E1D9194731F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BE75EA9-2DBA-4A5F-9EB7-2A20371BBEF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F4E3E64-1F98-4177-9D35-8CB63AB3A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8BE6168-2187-4A98-8BFC-08B7C83C5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B87A6D6-2622-457D-9A60-620E93177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C298426-62C0-4E9D-95B6-481E17F32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A5F76F8-ABC1-4137-B988-F45C81723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03770E7-804B-4E03-A22C-CD9524A7A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E44CA28-B32E-43FA-8C11-B07ED1DE7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03268E0-0841-4A94-9488-2E89C3940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760082E-2FA1-4906-AF42-CA92A24C0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CEA4861-2A77-49DE-8C16-CC2B24EFE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63A69D0-A85A-43C2-B9E6-C340ACAEF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269AB02-D413-4138-9DDF-BF1CBF5BD3F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E4547705-376B-4825-81B7-A750A3C56A9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9075A19B-EA01-4F9D-98D9-7226F7A1B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D227A5D7-81FC-4252-8358-EF091EE4D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EF2C4A93-A5AE-4A92-9181-3D70B616D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311B1C27-64B8-43B2-B587-284494579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C8BE269-D829-47D4-BAD8-32D0D821B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5FA98C05-0A03-41CF-8C0B-3E83831E2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20418E51-2DDE-4907-BE7C-FEC5BDDF5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55778BEA-5630-43A2-8BA2-CA25E2F99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2A875402-1B13-4521-860C-F570BA8E6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3BCCA1B6-98AA-44A8-B576-9D6E0FAD1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1F2E4500-B609-423F-BB85-2821245D2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361D8703-0E48-4F50-8471-A63A4A08DC2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4ABB8F86-E57D-4996-A8D7-80347609676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03DF8C1B-8916-45E0-9B51-9707F8F01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FEF2DC13-0A38-4143-AE02-A34F12ACC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DDE0098-ABA7-4926-9D97-D90CABBB0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9E64ACFB-F24F-455D-BACE-D155C17AF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CA7D68E3-CBFC-43A8-97B6-967776777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DF848483-5F43-4F43-9CE1-F2EC768F7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97601A84-12B4-4376-94B1-B4D18B53C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A6F23EE5-7151-4C54-95F6-716EF2C5C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317FC4D7-5707-4228-BE81-DC0697582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7F27854B-4076-4358-8740-8B14E3256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85A22F51-C107-40FC-ACCD-00F39EB0F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2E7D67F3-F068-4643-AECD-DBB88AD9EC0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14C2FBC-4F8F-42E1-AF9D-25F735F9876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DA5BB55-A760-4498-8FA5-8F39934BB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B06AA26-B419-4DAA-9DE8-C975B5234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6E5AF63-8D52-4726-A447-ADD650299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D8E7D3B-34D1-435D-A9D4-4D9A08699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CEAF35B-21C1-41F6-A1E4-4D5466B1A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F4C1EBC-D602-4860-A336-84C88C3D0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0F0E3BF-086C-4576-A46F-985D24201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698444B-D10B-469E-A063-E194EFC4D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D858031-DB39-43A0-A166-FC9231DAC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F9E6434-0698-4DEB-90EB-39FBF39DD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9F6E02D-975E-4679-A5AA-0F1AD32EF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77CE9C-6BE1-4DAD-91E1-EB9262A83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8FC46F2-0663-4641-8C42-C7F3D75CC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9BDF479-AF29-45CA-8F89-717D8C0E08F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14F315C-AD33-4EC0-9A54-9BFF689AE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9F45A9A-B251-410F-B485-03BE194B6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7F1C83D-5B91-4030-83B1-D89496A5A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44C0CA4-FA27-4FAE-AC27-0825DFFE2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1E16E08-C917-4712-A03F-23A829AD7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38368F4-C065-4348-8E2F-462D2791D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398102D-60E0-4CB8-9686-284774227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1DC9550-4864-4273-80D5-4D5F71C06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1127010-FF25-48FF-B5B7-B5601922E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758A65C-4712-4BFD-A068-414F48B60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8C77ACF-DF62-49A4-9525-DAE5E6D42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7692604-7A25-444D-91AD-85D0308B1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C6FA5B5-5F33-4A46-82BE-EB56B8D67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780DD93-BADC-42C5-BAD2-9166E4A5E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8DD03DD-FD54-4059-9A37-07B1B0D5D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4C8F4FC-DA14-4C80-9188-C9A8F812B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795EEE4-EA2E-430D-BAEA-311911A66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2BF2D13-0484-438A-9E33-865A7903A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B7A093C-5FAF-445A-A869-F2BB4FD15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576D809-2D44-41FA-AFEC-579757EEE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F1C3DD8-A09B-492F-9689-006D65B3C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ED3EDED-C981-4A69-8581-76949DE35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79BFAE9-D4C9-49C4-868D-13E673797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BFC556F-3B76-4BB6-8AF1-2FF67AF6A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970B017-D38C-4635-9381-6E7646AF3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A91A15F-D55E-4CFD-8C26-5A66F3CEC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B1E475C-3C5B-4D2B-842A-EAC89964D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92A317E-AE6F-410F-B8E6-5F6F091F2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F0E015F-661A-4AD8-A06B-9DB048A7D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9DC86F0-E35B-4DD1-AFF0-1AC99632B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98D287E-3222-424D-A65B-377766609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F84E0D8-B574-4E91-A492-8BAF0145B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28082B4-31A0-4D21-9EE9-1118D2B24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EFA8F49-4C40-496C-BCCA-A7D0691A1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C516595-AA12-4722-BE87-1C54ABC39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D651B11-608A-45CB-84E2-8A5F7C7FE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4736245-9806-4BF1-894F-755FF8F5F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E41DF67-1874-4723-B8FF-CE24B0AD6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3402210-19B5-4E03-8B75-1359832E7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6BBC293-BFC0-417B-8288-F66F341BA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CCE9980-3B11-46E8-9260-51B148D3F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A80DD7A-EC76-4E4F-A04F-248D346C9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6FA1C4F-0FBA-4D2F-9FAE-96537635E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6ABE098-BFBC-4696-B8B1-A40683DFA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01C0FBD-E4A8-4DA7-9B5D-31047ACDD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63877E1-6929-493B-8BED-7CCA6A1B7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07B317F-465A-4B03-ACED-896126BC6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CFC06CF-9A0C-4E74-8E9F-EBE467A67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D8FA800-A902-4704-BE16-BF15BBBBF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029DAE6-65A2-4D33-9E9D-9BE67E060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2113BC8-EB35-4EB5-B725-CFDE29DA5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FCE72C3-F25C-4C85-804B-097DB6588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DBEE50D-98B6-4EE3-B216-87C43156F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55DADC2-7C0F-4FFF-8A1E-AEBB10A1E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0D4B94C-3881-4D02-8679-C4DA2B033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37F9143-9665-478B-92A1-9320B1DE1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64CAC6B-5569-4B4B-9429-B8C30DD7D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D837202-6117-4837-AC6B-EABFC51EC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7AD9EAD-1CB7-4223-8271-5FA29C21B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E1F55C7-F966-4E10-9A87-22927905E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0027150-9CEB-4FBB-9769-EF6287F19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B3C8351-3B61-496D-A7F4-B82971122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E5674BD-D262-400E-8D6D-FDC0FBE16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19781F7-16B5-4C0D-8BD5-73C62D702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F5DC9DD-3653-4D69-BAA3-460EEF066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0149921-6D36-4836-806A-3E4559375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223F819-A60C-470B-8337-520D76CFC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35C10C1-1438-4AAA-A369-C42D37BF0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3922211-6D46-4C4B-8F9A-9462B4396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7314AB7-E2EB-418E-AB26-78E8A14C0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9262859-5F0B-4397-B2F3-1DBA13F1E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E6BBE1B-D9ED-483E-9EC6-2795FA6DD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0459F41-D80E-4735-89DF-B31067438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85B9420-A05F-4CC7-BA3C-D2D0C8106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7CBD4D3-0929-4A24-ADB9-6B3154DB9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D899A2-CB41-4584-B2AE-FABAFAD6F93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F420286-D452-40CA-A71E-7C013DA10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DC10156-5945-4BEE-B46A-409C81694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30E94ED-2D36-4D14-B251-A93C8D75B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5EB60D5-E172-4579-84BF-E6FF06CF5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1958287-5241-4642-A623-892FF12BB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71B7029-8C5E-450F-A3CD-D77EF67C9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9C07D98-0CB1-439D-8279-6A2955C91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60598EA-D5AC-4BB5-B484-45A1D11F7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FB2B601-7410-452D-A24D-C2C9DFB5E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E407A88-FFBB-40B1-B13C-BAB6F8879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FBEAE9-7F3B-4765-BB1E-50F0223E8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524960F-26B4-401C-8BDA-39311E260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6A41D8D-2D9E-489B-AF5F-9FB4FF75D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90FC9DC-09B2-4A7B-84D2-FA6146EDC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D7F4161-2079-4111-96DF-08DEAB758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E099756-4958-4CD2-A596-0306D34D6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E43DDBF-7451-4FD7-BAAD-DF79CAA58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BAB2ED2-A594-4685-A4D1-D28676E0F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7754966-4EB8-4EE6-BFC7-08B868F96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D014DBA-A09D-4218-A0DB-FC9AC4078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3DCC09B-CED2-4925-A3AD-A221D1582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75E617-0FD3-412C-80B8-4A1D1E1F4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5A9523F-80FD-4483-9E24-160AE1555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A38939D-BC54-4DAB-A08C-87E2A8D67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2772BD3-7F37-4E21-9C93-8CE7D9AF1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36A9755-AFC5-42FB-8851-FB8CAC3AA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C2FD567-2F99-400C-8AAF-CEB8C12D0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80E8751-A9C8-4252-AEE1-8528007FB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2DCBD93-1787-484C-A2BF-A6B9EF153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0B14935-0502-48B4-B1B6-ABC5E13F8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15AA062-4487-4534-96BF-6937209B1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B0663D9-B645-4CCE-9729-23B0EF6C6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F721E0-7204-4535-ADFE-D290375F9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533490-A2C6-485F-ACBB-785FE8A35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4F90B42-F64A-4562-B968-2582CFD2A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4C9BF3F-A81D-4913-BCE2-4C4945F22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1810D73-9248-44BA-8A3D-5AF747AB8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3B6F575-D234-4C4A-B092-1922FCF1A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90A35E5-8873-403F-AA7F-440FC7FB2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B970845-AE7A-44AC-A35E-46A648A6D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D1A8172-06B4-44CE-A1B2-8A5539144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4CB3AF9-695A-408B-AE71-CAE877CF4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1C78B4E-8811-4629-8960-A73BD3E37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F7D105D-55FC-409D-B828-38770A448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8BFE42-69A7-49E8-9742-983162D6A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698A69C-8E33-482D-968A-D57EEC0B1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BE99534-5162-46B1-9D24-200F7D1D9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05050A4-61ED-4086-BBCC-6FBA8B795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004EB3B-E9FC-46E2-BFD2-502A80AC5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3807672-D591-4677-8582-43D42B0ED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541E6B6-5670-46B9-9DD8-0C8CA9DA2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951057D-92D9-45E6-A452-C8F772E51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981BAFA-2A2D-49D8-9D7A-41EA85BBF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E77E90E-A423-4C13-B524-E5DEFE158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1F0168A-6CFC-4D70-9901-BDE9F14C1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24AC21-B372-4073-838E-913B69753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4DE9719-2E1D-47B8-930A-34E96DE1E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63FC707-5838-4651-9C29-28B269D3D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BBD77AD-5A90-43FC-9299-AA19DE442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0FCF9ED-2E04-438B-BCB7-6ACBA7104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CC7249F-F9B4-4C8E-BA5F-4AF5AD389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D192503-6177-467F-B8C8-1BF748D81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B6CB96C-0531-4DF7-AC8B-F21FB0DF6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839A6FA-DF8A-484A-96BC-BB258807E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E20A5E0-2624-47FB-B479-456200986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948491A-571E-49E2-AE23-35098BD0B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863E8C-5E63-4912-A01B-F6EE38783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0A22DBA-3561-4DD9-8E73-573970AE8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4B59DC2-6F9D-4F0C-B2E2-00D71B0EE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F2093A8-77D4-4F8C-BB52-2E5B5BAE6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F78CA5-0065-4C3F-A5F1-3F900A3FE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9317E0-51C7-4611-93F2-901B238D9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CEAC52-A4EA-4FDA-8DDA-1872AD951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7C79FB-2DAD-471F-B295-4BB2D0A68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8886F2-5603-4B96-A73C-FD32C158FC4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7BF7E44-D60F-46A9-858E-A972C2FACD2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A60097-B67A-4575-9E6A-519EEDB5E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1B97CEF-4D57-4620-BE74-678EF0D83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0F0C09D-8EF6-43A8-B17E-BEA2082B4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D9A7086-D294-4F01-A28A-B887738FD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D9C07F0-3134-4CD5-A365-C23DD292A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0332A15-A2AB-4D74-80F6-6D790FAC6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2220F74-F768-4407-8C5F-92F24797E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97F1A92-5551-4883-9AEB-56D3FE0FD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FFE39D2-B8C2-4B3E-96D5-17B5CEA1F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9002B06-4753-49A4-BEAB-4E169E29E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9E8DC60-C6E7-4CCA-87DF-BC055E46B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B873AD-48E2-483C-831A-855AC54CB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B21638C-E715-4B7E-A009-124A982C517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C45A674-DB9F-4D99-85F3-3F4D2F60603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66D9439-3BBD-475E-BDDD-A549A2720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D0E03CC-C60B-4495-B46B-CE510FB3C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CD6BB6B-965C-4502-ADD0-83AE35BA8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E9F0979-4DC1-4B5A-99D2-3D4F118C0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A4A31C2-34DB-4A7E-B34D-F9C234C93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78C525A-C516-4BC2-A06D-33E28688B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B67D7B1-0513-491A-B0E1-3252793CF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4B6B7B1-9B40-4C6B-B7AB-75724318A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2C996F-5C49-4D74-8E0B-501F2DCF7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EB90FD4-7A4C-427C-BC96-BC798AC4A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F77DA8C-2B7C-458E-B830-F3A2B8335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24AFE29-9646-47DE-B814-1406AB58BFB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C4B11C-37A3-447C-A55E-CAC5AF3AA9E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1F3CAB-0E10-454F-A2F6-7BF2F8A0E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663785-8F59-49EA-8AFB-5B13819A7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1D564B-1401-452F-89D4-7D2C21B1C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F05CD9-C18B-4A80-8831-5570F6BFA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0C00FA-733C-4EA2-AF3F-5EBE61D9D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940E34-D9A0-4C10-A2E5-AD2AC2EDF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B91CC8-0FB2-49EF-8F83-58D6AE71C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734D7C-F963-4F96-AA0F-A716A3D45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C47C79-1DA5-495F-A42C-16C6A37A9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4F7B0D-D773-4F70-90C9-652679C1F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C7BD2D-215C-4656-8AF0-22282066E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70B506-7E1B-4EDA-8D22-8041AC22B71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9F9E221-CDDC-4C87-B621-D0EA89902B8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BAFAB41-EE28-4676-9705-7862425ED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9A4BD96-1B44-41B1-BC87-A7062BC36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0E8A664-3299-4D5A-B0A9-1752DFF03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8B29300-042A-4835-B710-5D8DBC533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A6F6E1-61C5-4961-977E-8F5CA2DAB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6410855-9C76-430C-AD16-8FD946E0E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94B7070-2EAF-4D0F-B819-88A0307F4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D36AD3C-2752-4B98-8DD9-340049141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9DEDC2B-9479-42D9-B1D2-3B5954D0C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92BAE55-B074-4DA7-A1B1-F44FF571C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7387554-D02C-492B-BB6D-619F083FB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6CDE621-1229-4106-A4D4-6B17B446EB0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B917B70-A770-4467-B3F1-450BFA8AAB0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7E2774A-3C4E-4C23-AF75-EEC7242A7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D2DA8BC-D882-4B05-9B40-51EA5FEEA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slideLayout" Target="../slideLayouts/slideLayout373.xml"/><Relationship Id="rId3" Type="http://schemas.openxmlformats.org/officeDocument/2006/relationships/slideLayout" Target="../slideLayouts/slideLayout374.xml"/><Relationship Id="rId4" Type="http://schemas.openxmlformats.org/officeDocument/2006/relationships/slideLayout" Target="../slideLayouts/slideLayout375.xml"/><Relationship Id="rId5" Type="http://schemas.openxmlformats.org/officeDocument/2006/relationships/slideLayout" Target="../slideLayouts/slideLayout376.xml"/><Relationship Id="rId6" Type="http://schemas.openxmlformats.org/officeDocument/2006/relationships/slideLayout" Target="../slideLayouts/slideLayout377.xml"/><Relationship Id="rId7" Type="http://schemas.openxmlformats.org/officeDocument/2006/relationships/slideLayout" Target="../slideLayouts/slideLayout378.xml"/><Relationship Id="rId8" Type="http://schemas.openxmlformats.org/officeDocument/2006/relationships/slideLayout" Target="../slideLayouts/slideLayout379.xml"/><Relationship Id="rId9" Type="http://schemas.openxmlformats.org/officeDocument/2006/relationships/slideLayout" Target="../slideLayouts/slideLayout380.xml"/><Relationship Id="rId10" Type="http://schemas.openxmlformats.org/officeDocument/2006/relationships/slideLayout" Target="../slideLayouts/slideLayout381.xml"/><Relationship Id="rId11" Type="http://schemas.openxmlformats.org/officeDocument/2006/relationships/slideLayout" Target="../slideLayouts/slideLayout382.xml"/><Relationship Id="rId12" Type="http://schemas.openxmlformats.org/officeDocument/2006/relationships/slideLayout" Target="../slideLayouts/slideLayout383.xml"/><Relationship Id="rId13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slideLayout" Target="../slideLayouts/slideLayout385.xml"/><Relationship Id="rId3" Type="http://schemas.openxmlformats.org/officeDocument/2006/relationships/slideLayout" Target="../slideLayouts/slideLayout386.xml"/><Relationship Id="rId4" Type="http://schemas.openxmlformats.org/officeDocument/2006/relationships/slideLayout" Target="../slideLayouts/slideLayout387.xml"/><Relationship Id="rId5" Type="http://schemas.openxmlformats.org/officeDocument/2006/relationships/slideLayout" Target="../slideLayouts/slideLayout388.xml"/><Relationship Id="rId6" Type="http://schemas.openxmlformats.org/officeDocument/2006/relationships/slideLayout" Target="../slideLayouts/slideLayout389.xml"/><Relationship Id="rId7" Type="http://schemas.openxmlformats.org/officeDocument/2006/relationships/slideLayout" Target="../slideLayouts/slideLayout390.xml"/><Relationship Id="rId8" Type="http://schemas.openxmlformats.org/officeDocument/2006/relationships/slideLayout" Target="../slideLayouts/slideLayout391.xml"/><Relationship Id="rId9" Type="http://schemas.openxmlformats.org/officeDocument/2006/relationships/slideLayout" Target="../slideLayouts/slideLayout392.xml"/><Relationship Id="rId10" Type="http://schemas.openxmlformats.org/officeDocument/2006/relationships/slideLayout" Target="../slideLayouts/slideLayout393.xml"/><Relationship Id="rId11" Type="http://schemas.openxmlformats.org/officeDocument/2006/relationships/slideLayout" Target="../slideLayouts/slideLayout394.xml"/><Relationship Id="rId12" Type="http://schemas.openxmlformats.org/officeDocument/2006/relationships/slideLayout" Target="../slideLayouts/slideLayout395.xml"/><Relationship Id="rId13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slideLayout" Target="../slideLayouts/slideLayout397.xml"/><Relationship Id="rId3" Type="http://schemas.openxmlformats.org/officeDocument/2006/relationships/slideLayout" Target="../slideLayouts/slideLayout398.xml"/><Relationship Id="rId4" Type="http://schemas.openxmlformats.org/officeDocument/2006/relationships/slideLayout" Target="../slideLayouts/slideLayout399.xml"/><Relationship Id="rId5" Type="http://schemas.openxmlformats.org/officeDocument/2006/relationships/slideLayout" Target="../slideLayouts/slideLayout400.xml"/><Relationship Id="rId6" Type="http://schemas.openxmlformats.org/officeDocument/2006/relationships/slideLayout" Target="../slideLayouts/slideLayout401.xml"/><Relationship Id="rId7" Type="http://schemas.openxmlformats.org/officeDocument/2006/relationships/slideLayout" Target="../slideLayouts/slideLayout402.xml"/><Relationship Id="rId8" Type="http://schemas.openxmlformats.org/officeDocument/2006/relationships/slideLayout" Target="../slideLayouts/slideLayout403.xml"/><Relationship Id="rId9" Type="http://schemas.openxmlformats.org/officeDocument/2006/relationships/slideLayout" Target="../slideLayouts/slideLayout404.xml"/><Relationship Id="rId10" Type="http://schemas.openxmlformats.org/officeDocument/2006/relationships/slideLayout" Target="../slideLayouts/slideLayout405.xml"/><Relationship Id="rId11" Type="http://schemas.openxmlformats.org/officeDocument/2006/relationships/slideLayout" Target="../slideLayouts/slideLayout406.xml"/><Relationship Id="rId12" Type="http://schemas.openxmlformats.org/officeDocument/2006/relationships/slideLayout" Target="../slideLayouts/slideLayout407.xml"/><Relationship Id="rId13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slideLayout" Target="../slideLayouts/slideLayout409.xml"/><Relationship Id="rId3" Type="http://schemas.openxmlformats.org/officeDocument/2006/relationships/slideLayout" Target="../slideLayouts/slideLayout410.xml"/><Relationship Id="rId4" Type="http://schemas.openxmlformats.org/officeDocument/2006/relationships/slideLayout" Target="../slideLayouts/slideLayout411.xml"/><Relationship Id="rId5" Type="http://schemas.openxmlformats.org/officeDocument/2006/relationships/slideLayout" Target="../slideLayouts/slideLayout412.xml"/><Relationship Id="rId6" Type="http://schemas.openxmlformats.org/officeDocument/2006/relationships/slideLayout" Target="../slideLayouts/slideLayout413.xml"/><Relationship Id="rId7" Type="http://schemas.openxmlformats.org/officeDocument/2006/relationships/slideLayout" Target="../slideLayouts/slideLayout414.xml"/><Relationship Id="rId8" Type="http://schemas.openxmlformats.org/officeDocument/2006/relationships/slideLayout" Target="../slideLayouts/slideLayout415.xml"/><Relationship Id="rId9" Type="http://schemas.openxmlformats.org/officeDocument/2006/relationships/slideLayout" Target="../slideLayouts/slideLayout416.xml"/><Relationship Id="rId10" Type="http://schemas.openxmlformats.org/officeDocument/2006/relationships/slideLayout" Target="../slideLayouts/slideLayout417.xml"/><Relationship Id="rId11" Type="http://schemas.openxmlformats.org/officeDocument/2006/relationships/slideLayout" Target="../slideLayouts/slideLayout418.xml"/><Relationship Id="rId12" Type="http://schemas.openxmlformats.org/officeDocument/2006/relationships/slideLayout" Target="../slideLayouts/slideLayout419.xml"/><Relationship Id="rId13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slideLayout" Target="../slideLayouts/slideLayout421.xml"/><Relationship Id="rId3" Type="http://schemas.openxmlformats.org/officeDocument/2006/relationships/slideLayout" Target="../slideLayouts/slideLayout422.xml"/><Relationship Id="rId4" Type="http://schemas.openxmlformats.org/officeDocument/2006/relationships/slideLayout" Target="../slideLayouts/slideLayout423.xml"/><Relationship Id="rId5" Type="http://schemas.openxmlformats.org/officeDocument/2006/relationships/slideLayout" Target="../slideLayouts/slideLayout424.xml"/><Relationship Id="rId6" Type="http://schemas.openxmlformats.org/officeDocument/2006/relationships/slideLayout" Target="../slideLayouts/slideLayout425.xml"/><Relationship Id="rId7" Type="http://schemas.openxmlformats.org/officeDocument/2006/relationships/slideLayout" Target="../slideLayouts/slideLayout426.xml"/><Relationship Id="rId8" Type="http://schemas.openxmlformats.org/officeDocument/2006/relationships/slideLayout" Target="../slideLayouts/slideLayout427.xml"/><Relationship Id="rId9" Type="http://schemas.openxmlformats.org/officeDocument/2006/relationships/slideLayout" Target="../slideLayouts/slideLayout428.xml"/><Relationship Id="rId10" Type="http://schemas.openxmlformats.org/officeDocument/2006/relationships/slideLayout" Target="../slideLayouts/slideLayout429.xml"/><Relationship Id="rId11" Type="http://schemas.openxmlformats.org/officeDocument/2006/relationships/slideLayout" Target="../slideLayouts/slideLayout430.xml"/><Relationship Id="rId12" Type="http://schemas.openxmlformats.org/officeDocument/2006/relationships/slideLayout" Target="../slideLayouts/slideLayout431.xml"/><Relationship Id="rId13" Type="http://schemas.openxmlformats.org/officeDocument/2006/relationships/slideLayout" Target="../slideLayouts/slideLayout432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35841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1" name="组合 3584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2" name="椭圆 3584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3" name="椭圆 3584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4" name="椭圆 3584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" name="椭圆 3584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" name="椭圆 3584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04690-5F55-4265-B612-E7D5E8094C1E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DA40E-F639-4F92-B4A9-4E95A3B4DC34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 type="sldNum" idx="2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33F75-ED1F-4C2F-98CC-98BC1E525938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 type="dt" idx="2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 type="sldNum" idx="2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28202-9051-4C27-A831-3FF2B9E14D4E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 type="dt" idx="2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A6BD5-63F3-485F-85AA-E0B007DB4D2A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 type="sldNum" idx="2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BEEFD-DE3F-4BB1-818B-6B6D2A4C368C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 type="dt" idx="3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 type="sldNum" idx="3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E6654-3EEB-4C56-9EFE-BF8E7C6EECA6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 type="dt" idx="3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6C304-D432-489E-B2AC-49F0D13263B9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 type="sldNum" idx="3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1B106-7C09-43DD-903E-AD525FDFC65F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 type="dt" idx="3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 type="sldNum" idx="3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91E14-E9BA-4106-926D-1B78438966FA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 type="dt" idx="3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5A46E-1D8D-4C5F-95A5-A8A1D2648CCD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图片 25601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48" name="组合 2560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49" name="椭圆 2560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0" name="椭圆 2560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1" name="椭圆 2560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2" name="椭圆 2560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3" name="椭圆 2560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B83A4-772E-4295-86B6-53DC63BF54CB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 type="dt" idx="4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 type="sldNum" idx="4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7B121-3320-41EE-BE1A-1624273B8E97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 type="dt" idx="4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 type="sldNum" idx="4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22F13-50CC-4D4A-AF4E-4DB621966813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 type="dt" idx="4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 type="sldNum" idx="4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067C4-9C0F-4BFC-8C8F-14B7DBD94400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 type="dt" idx="4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 type="sldNum" idx="4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5A9E0-7470-4582-BE86-E19EAC3D17C7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 type="dt" idx="4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 type="sldNum" idx="4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3CAA0-9EDB-4DBD-9560-2FC1C895CCFE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 type="dt" idx="5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92" name="PlaceHolder 4"/>
          <p:cNvSpPr>
            <a:spLocks noGrp="1"/>
          </p:cNvSpPr>
          <p:nvPr>
            <p:ph type="sldNum" idx="5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33A6F-F1FA-47F3-91DF-0205B472FD07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PlaceHolder 3"/>
          <p:cNvSpPr>
            <a:spLocks noGrp="1"/>
          </p:cNvSpPr>
          <p:nvPr>
            <p:ph type="dt" idx="5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32" name="PlaceHolder 4"/>
          <p:cNvSpPr>
            <a:spLocks noGrp="1"/>
          </p:cNvSpPr>
          <p:nvPr>
            <p:ph type="ftr" idx="5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33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0A10A-81D1-48D8-A25A-F87EF1E67154}" type="slidenum"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 type="dt" idx="5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 type="ftr" idx="5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74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1C408-749C-4773-B465-4CDD1354E4F8}" type="slidenum"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 type="dt" idx="5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 type="ftr" idx="5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15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0F6BD-10A3-4E19-ACCC-DF859D5EAB1F}" type="slidenum"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PlaceHolder 3"/>
          <p:cNvSpPr>
            <a:spLocks noGrp="1"/>
          </p:cNvSpPr>
          <p:nvPr>
            <p:ph type="dt" idx="6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55" name="PlaceHolder 4"/>
          <p:cNvSpPr>
            <a:spLocks noGrp="1"/>
          </p:cNvSpPr>
          <p:nvPr>
            <p:ph type="ftr" idx="6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56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56852-D3CB-4700-93EB-46B68365C32F}" type="slidenum"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图片 25601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95" name="组合 2560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96" name="椭圆 2560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97" name="椭圆 2560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98" name="椭圆 2560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99" name="椭圆 2560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00" name="椭圆 2560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CFE51-F959-4922-BE9A-D0FACFDCDCCA}" type="slidenum"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PlaceHolder 3"/>
          <p:cNvSpPr>
            <a:spLocks noGrp="1"/>
          </p:cNvSpPr>
          <p:nvPr>
            <p:ph type="dt" idx="6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96" name="PlaceHolder 4"/>
          <p:cNvSpPr>
            <a:spLocks noGrp="1"/>
          </p:cNvSpPr>
          <p:nvPr>
            <p:ph type="ftr" idx="6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97" name="PlaceHolder 5"/>
          <p:cNvSpPr>
            <a:spLocks noGrp="1"/>
          </p:cNvSpPr>
          <p:nvPr>
            <p:ph type="sldNum" idx="6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10B57-721F-4323-AD0A-C5D6001EA569}" type="slidenum"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PlaceHolder 3"/>
          <p:cNvSpPr>
            <a:spLocks noGrp="1"/>
          </p:cNvSpPr>
          <p:nvPr>
            <p:ph type="dt" idx="6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37" name="PlaceHolder 4"/>
          <p:cNvSpPr>
            <a:spLocks noGrp="1"/>
          </p:cNvSpPr>
          <p:nvPr>
            <p:ph type="ftr" idx="6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38" name="PlaceHolder 5"/>
          <p:cNvSpPr>
            <a:spLocks noGrp="1"/>
          </p:cNvSpPr>
          <p:nvPr>
            <p:ph type="sldNum" idx="6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5406F-A1D2-47F0-B156-375E6039C86E}" type="slidenum"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PlaceHolder 3"/>
          <p:cNvSpPr>
            <a:spLocks noGrp="1"/>
          </p:cNvSpPr>
          <p:nvPr>
            <p:ph type="dt" idx="7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78" name="PlaceHolder 4"/>
          <p:cNvSpPr>
            <a:spLocks noGrp="1"/>
          </p:cNvSpPr>
          <p:nvPr>
            <p:ph type="ftr" idx="7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79" name="PlaceHolder 5"/>
          <p:cNvSpPr>
            <a:spLocks noGrp="1"/>
          </p:cNvSpPr>
          <p:nvPr>
            <p:ph type="sldNum" idx="7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CCD9B-92B6-4AF3-8497-3626C039BDE9}" type="slidenum"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2"/>
    <p:sldLayoutId id="2147484053" r:id="rId3"/>
    <p:sldLayoutId id="2147484054" r:id="rId4"/>
    <p:sldLayoutId id="2147484055" r:id="rId5"/>
    <p:sldLayoutId id="2147484056" r:id="rId6"/>
    <p:sldLayoutId id="2147484057" r:id="rId7"/>
    <p:sldLayoutId id="2147484058" r:id="rId8"/>
    <p:sldLayoutId id="2147484059" r:id="rId9"/>
    <p:sldLayoutId id="2147484060" r:id="rId10"/>
    <p:sldLayoutId id="2147484061" r:id="rId11"/>
    <p:sldLayoutId id="2147484062" r:id="rId12"/>
    <p:sldLayoutId id="2147484063" r:id="rId13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PlaceHolder 3"/>
          <p:cNvSpPr>
            <a:spLocks noGrp="1"/>
          </p:cNvSpPr>
          <p:nvPr>
            <p:ph type="dt" idx="7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319" name="PlaceHolder 4"/>
          <p:cNvSpPr>
            <a:spLocks noGrp="1"/>
          </p:cNvSpPr>
          <p:nvPr>
            <p:ph type="ftr" idx="7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320" name="PlaceHolder 5"/>
          <p:cNvSpPr>
            <a:spLocks noGrp="1"/>
          </p:cNvSpPr>
          <p:nvPr>
            <p:ph type="sldNum" idx="7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133A4-2485-4ED9-9F2E-B1B72ACB3BA9}" type="slidenum"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2"/>
    <p:sldLayoutId id="2147484066" r:id="rId3"/>
    <p:sldLayoutId id="2147484067" r:id="rId4"/>
    <p:sldLayoutId id="2147484068" r:id="rId5"/>
    <p:sldLayoutId id="2147484069" r:id="rId6"/>
    <p:sldLayoutId id="2147484070" r:id="rId7"/>
    <p:sldLayoutId id="2147484071" r:id="rId8"/>
    <p:sldLayoutId id="2147484072" r:id="rId9"/>
    <p:sldLayoutId id="2147484073" r:id="rId10"/>
    <p:sldLayoutId id="2147484074" r:id="rId11"/>
    <p:sldLayoutId id="2147484075" r:id="rId12"/>
    <p:sldLayoutId id="2147484076" r:id="rId13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PlaceHolder 3"/>
          <p:cNvSpPr>
            <a:spLocks noGrp="1"/>
          </p:cNvSpPr>
          <p:nvPr>
            <p:ph type="dt" idx="7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360" name="PlaceHolder 4"/>
          <p:cNvSpPr>
            <a:spLocks noGrp="1"/>
          </p:cNvSpPr>
          <p:nvPr>
            <p:ph type="ftr" idx="7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361" name="PlaceHolder 5"/>
          <p:cNvSpPr>
            <a:spLocks noGrp="1"/>
          </p:cNvSpPr>
          <p:nvPr>
            <p:ph type="sldNum" idx="7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F76D0-B03F-4A1A-A3DD-AB05CF62BF3F}" type="slidenum"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2"/>
    <p:sldLayoutId id="2147484079" r:id="rId3"/>
    <p:sldLayoutId id="2147484080" r:id="rId4"/>
    <p:sldLayoutId id="2147484081" r:id="rId5"/>
    <p:sldLayoutId id="2147484082" r:id="rId6"/>
    <p:sldLayoutId id="2147484083" r:id="rId7"/>
    <p:sldLayoutId id="2147484084" r:id="rId8"/>
    <p:sldLayoutId id="2147484085" r:id="rId9"/>
    <p:sldLayoutId id="2147484086" r:id="rId10"/>
    <p:sldLayoutId id="2147484087" r:id="rId11"/>
    <p:sldLayoutId id="2147484088" r:id="rId12"/>
    <p:sldLayoutId id="2147484089" r:id="rId13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PlaceHolder 3"/>
          <p:cNvSpPr>
            <a:spLocks noGrp="1"/>
          </p:cNvSpPr>
          <p:nvPr>
            <p:ph type="dt" idx="7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01" name="PlaceHolder 4"/>
          <p:cNvSpPr>
            <a:spLocks noGrp="1"/>
          </p:cNvSpPr>
          <p:nvPr>
            <p:ph type="ftr" idx="8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02" name="PlaceHolder 5"/>
          <p:cNvSpPr>
            <a:spLocks noGrp="1"/>
          </p:cNvSpPr>
          <p:nvPr>
            <p:ph type="sldNum" idx="8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9AE09-5DA7-47A4-A949-6A49B969A59A}" type="slidenum"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2"/>
    <p:sldLayoutId id="2147484092" r:id="rId3"/>
    <p:sldLayoutId id="2147484093" r:id="rId4"/>
    <p:sldLayoutId id="2147484094" r:id="rId5"/>
    <p:sldLayoutId id="2147484095" r:id="rId6"/>
    <p:sldLayoutId id="2147484096" r:id="rId7"/>
    <p:sldLayoutId id="2147484097" r:id="rId8"/>
    <p:sldLayoutId id="2147484098" r:id="rId9"/>
    <p:sldLayoutId id="2147484099" r:id="rId10"/>
    <p:sldLayoutId id="2147484100" r:id="rId11"/>
    <p:sldLayoutId id="2147484101" r:id="rId12"/>
    <p:sldLayoutId id="2147484102" r:id="rId13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PlaceHolder 3"/>
          <p:cNvSpPr>
            <a:spLocks noGrp="1"/>
          </p:cNvSpPr>
          <p:nvPr>
            <p:ph type="dt" idx="8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42" name="PlaceHolder 4"/>
          <p:cNvSpPr>
            <a:spLocks noGrp="1"/>
          </p:cNvSpPr>
          <p:nvPr>
            <p:ph type="ftr" idx="8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43" name="PlaceHolder 5"/>
          <p:cNvSpPr>
            <a:spLocks noGrp="1"/>
          </p:cNvSpPr>
          <p:nvPr>
            <p:ph type="sldNum" idx="8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D474C-4885-4AA3-9EEA-68246D7A4CBD}" type="slidenum"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2"/>
    <p:sldLayoutId id="2147484105" r:id="rId3"/>
    <p:sldLayoutId id="2147484106" r:id="rId4"/>
    <p:sldLayoutId id="2147484107" r:id="rId5"/>
    <p:sldLayoutId id="2147484108" r:id="rId6"/>
    <p:sldLayoutId id="2147484109" r:id="rId7"/>
    <p:sldLayoutId id="2147484110" r:id="rId8"/>
    <p:sldLayoutId id="2147484111" r:id="rId9"/>
    <p:sldLayoutId id="2147484112" r:id="rId10"/>
    <p:sldLayoutId id="2147484113" r:id="rId11"/>
    <p:sldLayoutId id="2147484114" r:id="rId12"/>
    <p:sldLayoutId id="2147484115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组合 36865"/>
          <p:cNvGrpSpPr/>
          <p:nvPr/>
        </p:nvGrpSpPr>
        <p:grpSpPr>
          <a:xfrm>
            <a:off x="1658520" y="1600200"/>
            <a:ext cx="6837840" cy="3200400"/>
            <a:chOff x="1658520" y="1600200"/>
            <a:chExt cx="6837840" cy="3200400"/>
          </a:xfrm>
        </p:grpSpPr>
        <p:sp>
          <p:nvSpPr>
            <p:cNvPr id="143" name="椭圆 36866"/>
            <p:cNvSpPr/>
            <p:nvPr/>
          </p:nvSpPr>
          <p:spPr>
            <a:xfrm flipH="1">
              <a:off x="697212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44" name="椭圆 36867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45" name="椭圆 36868"/>
            <p:cNvSpPr/>
            <p:nvPr/>
          </p:nvSpPr>
          <p:spPr>
            <a:xfrm flipH="1">
              <a:off x="3390120" y="160020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46" name="椭圆 36869"/>
            <p:cNvSpPr/>
            <p:nvPr/>
          </p:nvSpPr>
          <p:spPr>
            <a:xfrm flipH="1">
              <a:off x="339012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47" name="椭圆 36870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48" name="椭圆 36871"/>
            <p:cNvSpPr/>
            <p:nvPr/>
          </p:nvSpPr>
          <p:spPr>
            <a:xfrm flipH="1">
              <a:off x="6972120" y="327672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E690B-54B4-45AC-BCA3-37BA8FABDDA9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D36E0-4DC9-4DA5-B9AE-EB27DAB1311A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dt" idx="1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sldNum" idx="1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ED80B-B14F-4894-92D0-5471BD7C271D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 type="dt" idx="1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A1515-97DA-477F-8801-4F339CDA7EAC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1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FF668-F502-41F0-A846-B37C130C70A0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1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sldNum" idx="1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E4B8C-B639-4F0D-9E23-ED0B216D1E90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4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4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4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4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15.gif"/><Relationship Id="rId3" Type="http://schemas.openxmlformats.org/officeDocument/2006/relationships/image" Target="../media/image16.jpeg"/><Relationship Id="rId4" Type="http://schemas.openxmlformats.org/officeDocument/2006/relationships/image" Target="../media/image16.jpeg"/><Relationship Id="rId5" Type="http://schemas.openxmlformats.org/officeDocument/2006/relationships/image" Target="../media/image15.gif"/><Relationship Id="rId6" Type="http://schemas.openxmlformats.org/officeDocument/2006/relationships/image" Target="../media/image15.gif"/><Relationship Id="rId7" Type="http://schemas.openxmlformats.org/officeDocument/2006/relationships/image" Target="../media/image17.gif"/><Relationship Id="rId8" Type="http://schemas.openxmlformats.org/officeDocument/2006/relationships/image" Target="../media/image17.gif"/><Relationship Id="rId9" Type="http://schemas.openxmlformats.org/officeDocument/2006/relationships/image" Target="../media/image15.gif"/><Relationship Id="rId10" Type="http://schemas.openxmlformats.org/officeDocument/2006/relationships/image" Target="../media/image15.gif"/><Relationship Id="rId11" Type="http://schemas.openxmlformats.org/officeDocument/2006/relationships/image" Target="../media/image15.gif"/><Relationship Id="rId12" Type="http://schemas.openxmlformats.org/officeDocument/2006/relationships/image" Target="../media/image15.gif"/><Relationship Id="rId13" Type="http://schemas.openxmlformats.org/officeDocument/2006/relationships/audio" Target="../media/start.wav"/><Relationship Id="rId14" Type="http://schemas.openxmlformats.org/officeDocument/2006/relationships/slideLayout" Target="../slideLayouts/slideLayout24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4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4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4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4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4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4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4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4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0" name="矩形 31745"/>
          <p:cNvSpPr/>
          <p:nvPr/>
        </p:nvSpPr>
        <p:spPr>
          <a:xfrm>
            <a:off x="269640" y="5176800"/>
            <a:ext cx="62892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绿色圃中小学教育网</a:t>
            </a:r>
            <a:r>
              <a:rPr b="0" i="1" lang="en-US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http://www.lspjy.com</a:t>
            </a:r>
            <a:endParaRPr b="0" i="1" lang="en-US" sz="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81" name="矩形 31746"/>
          <p:cNvSpPr/>
          <p:nvPr/>
        </p:nvSpPr>
        <p:spPr>
          <a:xfrm>
            <a:off x="485640" y="5392800"/>
            <a:ext cx="62892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绿色圃中小学教育网</a:t>
            </a:r>
            <a:r>
              <a:rPr b="0" i="1" lang="en-US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http://www.lspjy.com</a:t>
            </a:r>
            <a:endParaRPr b="0" i="1" lang="en-US" sz="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82" name="Rectangle 7"/>
          <p:cNvSpPr/>
          <p:nvPr/>
        </p:nvSpPr>
        <p:spPr>
          <a:xfrm>
            <a:off x="2195640" y="620640"/>
            <a:ext cx="5398920" cy="9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800" spc="-1" strike="noStrike" u="sng">
                <a:solidFill>
                  <a:srgbClr val="000000"/>
                </a:solidFill>
                <a:uFillTx/>
                <a:latin typeface="华文彩云"/>
                <a:ea typeface="宋体"/>
              </a:rPr>
              <a:t>圆</a:t>
            </a:r>
            <a:endParaRPr b="0" i="1" lang="en-US" sz="4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83" name="TextBox 3"/>
          <p:cNvSpPr/>
          <p:nvPr/>
        </p:nvSpPr>
        <p:spPr>
          <a:xfrm>
            <a:off x="1428840" y="2565360"/>
            <a:ext cx="3843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圆的周长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6" name="Rectangle 2"/>
          <p:cNvSpPr/>
          <p:nvPr/>
        </p:nvSpPr>
        <p:spPr>
          <a:xfrm>
            <a:off x="468360" y="404640"/>
            <a:ext cx="61308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三、知识应用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77" name="TextBox 11"/>
          <p:cNvSpPr/>
          <p:nvPr/>
        </p:nvSpPr>
        <p:spPr>
          <a:xfrm>
            <a:off x="2629080" y="5373720"/>
            <a:ext cx="285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4.71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÷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3.14</a:t>
            </a: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＝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1.5</a:t>
            </a: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（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Times New Roman"/>
                <a:ea typeface="宋体"/>
              </a:rPr>
              <a:t>m</a:t>
            </a: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）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78" name="TextBox 13"/>
          <p:cNvSpPr/>
          <p:nvPr/>
        </p:nvSpPr>
        <p:spPr>
          <a:xfrm>
            <a:off x="2062080" y="5877000"/>
            <a:ext cx="414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宋体"/>
                <a:ea typeface="宋体"/>
              </a:rPr>
              <a:t>答：这个圆桌面的直径是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1.5 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Times New Roman"/>
                <a:ea typeface="楷体_GB2312"/>
              </a:rPr>
              <a:t>m</a:t>
            </a: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宋体"/>
                <a:ea typeface="宋体"/>
              </a:rPr>
              <a:t>。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79" name="TextBox 12"/>
          <p:cNvSpPr/>
          <p:nvPr/>
        </p:nvSpPr>
        <p:spPr>
          <a:xfrm>
            <a:off x="785880" y="1641600"/>
            <a:ext cx="4794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2. 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这个圆桌面的直径是多少？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1580" name="图片 29701" descr="58"/>
          <p:cNvPicPr/>
          <p:nvPr/>
        </p:nvPicPr>
        <p:blipFill>
          <a:blip r:embed="rId1"/>
          <a:stretch/>
        </p:blipFill>
        <p:spPr>
          <a:xfrm>
            <a:off x="468360" y="2565360"/>
            <a:ext cx="3468600" cy="2157480"/>
          </a:xfrm>
          <a:prstGeom prst="rect">
            <a:avLst/>
          </a:prstGeom>
          <a:ln w="0">
            <a:noFill/>
          </a:ln>
        </p:spPr>
      </p:pic>
      <p:sp>
        <p:nvSpPr>
          <p:cNvPr id="1581" name="AutoShape 27"/>
          <p:cNvSpPr/>
          <p:nvPr/>
        </p:nvSpPr>
        <p:spPr>
          <a:xfrm>
            <a:off x="2195640" y="2276640"/>
            <a:ext cx="3143160" cy="957240"/>
          </a:xfrm>
          <a:prstGeom prst="wedgeRoundRectCallout">
            <a:avLst>
              <a:gd name="adj1" fmla="val -59648"/>
              <a:gd name="adj2" fmla="val 27944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我用卷尺量得圆桌面的周长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是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4.71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楷体_GB2312"/>
              </a:rPr>
              <a:t>m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。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1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1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1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Rectangle 2"/>
          <p:cNvSpPr/>
          <p:nvPr/>
        </p:nvSpPr>
        <p:spPr>
          <a:xfrm>
            <a:off x="468360" y="404640"/>
            <a:ext cx="61308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四、介绍数学史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1583" name="图片 30722" descr="59"/>
          <p:cNvPicPr/>
          <p:nvPr/>
        </p:nvPicPr>
        <p:blipFill>
          <a:blip r:embed="rId1"/>
          <a:stretch/>
        </p:blipFill>
        <p:spPr>
          <a:xfrm>
            <a:off x="725400" y="1916280"/>
            <a:ext cx="7518600" cy="431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Rectangle 2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五、全课总结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85" name="TextBox 4"/>
          <p:cNvSpPr/>
          <p:nvPr/>
        </p:nvSpPr>
        <p:spPr>
          <a:xfrm>
            <a:off x="1103400" y="2266920"/>
            <a:ext cx="757224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楷体_GB2312"/>
                <a:ea typeface="宋体"/>
              </a:rPr>
              <a:t>今天都有哪些收获？还有什么问题？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1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6" name="Picture 2" descr="星08"/>
          <p:cNvPicPr/>
          <p:nvPr/>
        </p:nvPicPr>
        <p:blipFill>
          <a:blip r:embed="rId1"/>
          <a:stretch/>
        </p:blipFill>
        <p:spPr>
          <a:xfrm>
            <a:off x="7315200" y="685800"/>
            <a:ext cx="884160" cy="884160"/>
          </a:xfrm>
          <a:prstGeom prst="rect">
            <a:avLst/>
          </a:prstGeom>
          <a:ln w="0">
            <a:noFill/>
          </a:ln>
        </p:spPr>
      </p:pic>
      <p:pic>
        <p:nvPicPr>
          <p:cNvPr id="1587" name="Picture 3" descr="星08"/>
          <p:cNvPicPr/>
          <p:nvPr/>
        </p:nvPicPr>
        <p:blipFill>
          <a:blip r:embed="rId2"/>
          <a:stretch/>
        </p:blipFill>
        <p:spPr>
          <a:xfrm>
            <a:off x="304920" y="4876920"/>
            <a:ext cx="884160" cy="884160"/>
          </a:xfrm>
          <a:prstGeom prst="rect">
            <a:avLst/>
          </a:prstGeom>
          <a:ln w="0">
            <a:noFill/>
          </a:ln>
        </p:spPr>
      </p:pic>
      <p:sp>
        <p:nvSpPr>
          <p:cNvPr id="1588" name="WordArt 4"/>
          <p:cNvSpPr txBox="1"/>
          <p:nvPr/>
        </p:nvSpPr>
        <p:spPr>
          <a:xfrm>
            <a:off x="1523880" y="4572000"/>
            <a:ext cx="609624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ln w="0">
                  <a:noFill/>
                </a:ln>
                <a:blipFill rotWithShape="0">
                  <a:blip r:embed="rId3"/>
                  <a:srcRect/>
                  <a:tile tx="0" ty="0" sx="100000" sy="100000" algn="ctr"/>
                </a:blipFill>
                <a:uFillTx/>
                <a:latin typeface="宋体"/>
              </a:rPr>
              <a:t>Good Bye!</a:t>
            </a:r>
            <a:endParaRPr b="0" i="1" lang="en-US" sz="3200" spc="-1" strike="noStrike" u="sng">
              <a:ln w="0">
                <a:noFill/>
              </a:ln>
              <a:blipFill rotWithShape="0">
                <a:blip r:embed="rId4"/>
                <a:srcRect/>
                <a:tile tx="0" ty="0" sx="100000" sy="100000" algn="ctr"/>
              </a:blipFill>
              <a:uFillTx/>
              <a:latin typeface="宋体"/>
              <a:ea typeface="宋体"/>
            </a:endParaRPr>
          </a:p>
        </p:txBody>
      </p:sp>
      <p:pic>
        <p:nvPicPr>
          <p:cNvPr id="1589" name="Picture 5" descr="星08"/>
          <p:cNvPicPr/>
          <p:nvPr/>
        </p:nvPicPr>
        <p:blipFill>
          <a:blip r:embed="rId5"/>
          <a:stretch/>
        </p:blipFill>
        <p:spPr>
          <a:xfrm>
            <a:off x="539640" y="5535720"/>
            <a:ext cx="503280" cy="503280"/>
          </a:xfrm>
          <a:prstGeom prst="rect">
            <a:avLst/>
          </a:prstGeom>
          <a:ln w="0">
            <a:noFill/>
          </a:ln>
        </p:spPr>
      </p:pic>
      <p:pic>
        <p:nvPicPr>
          <p:cNvPr id="1590" name="Picture 6" descr="星08"/>
          <p:cNvPicPr/>
          <p:nvPr/>
        </p:nvPicPr>
        <p:blipFill>
          <a:blip r:embed="rId6"/>
          <a:stretch/>
        </p:blipFill>
        <p:spPr>
          <a:xfrm>
            <a:off x="7451640" y="1197000"/>
            <a:ext cx="1258920" cy="790560"/>
          </a:xfrm>
          <a:prstGeom prst="rect">
            <a:avLst/>
          </a:prstGeom>
          <a:ln w="0">
            <a:noFill/>
          </a:ln>
        </p:spPr>
      </p:pic>
      <p:sp>
        <p:nvSpPr>
          <p:cNvPr id="1591" name="WordArt 7"/>
          <p:cNvSpPr txBox="1"/>
          <p:nvPr/>
        </p:nvSpPr>
        <p:spPr>
          <a:xfrm>
            <a:off x="1476360" y="2924280"/>
            <a:ext cx="5832360" cy="71280"/>
          </a:xfrm>
          <a:prstGeom prst="rect">
            <a:avLst/>
          </a:prstGeom>
        </p:spPr>
        <p:txBody>
          <a:bodyPr wrap="none" fromWordArt="1" lIns="90000" rIns="90000" tIns="24840" bIns="24840" anchor="t" anchorCtr="1">
            <a:prstTxWarp prst="textArchUp">
              <a:avLst>
                <a:gd name="adj" fmla="val 108003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600" spc="-1" strike="noStrike" u="sng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808080"/>
                  </a:outerShdw>
                </a:effectLst>
                <a:uFillTx/>
                <a:latin typeface="宋体"/>
              </a:rPr>
              <a:t>再见</a:t>
            </a:r>
            <a:endParaRPr b="1" i="1" lang="en-US" sz="6600" spc="-1" strike="noStrike" u="sng">
              <a:ln w="0">
                <a:noFill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808080"/>
                </a:outerShdw>
              </a:effectLst>
              <a:uFillTx/>
              <a:latin typeface="宋体"/>
              <a:ea typeface="宋体"/>
            </a:endParaRPr>
          </a:p>
        </p:txBody>
      </p:sp>
      <p:pic>
        <p:nvPicPr>
          <p:cNvPr id="1592" name="Picture 8" descr="星08"/>
          <p:cNvPicPr/>
          <p:nvPr/>
        </p:nvPicPr>
        <p:blipFill>
          <a:blip r:embed="rId9"/>
          <a:stretch/>
        </p:blipFill>
        <p:spPr>
          <a:xfrm>
            <a:off x="539640" y="476280"/>
            <a:ext cx="884520" cy="884160"/>
          </a:xfrm>
          <a:prstGeom prst="rect">
            <a:avLst/>
          </a:prstGeom>
          <a:ln w="0">
            <a:noFill/>
          </a:ln>
        </p:spPr>
      </p:pic>
      <p:pic>
        <p:nvPicPr>
          <p:cNvPr id="1593" name="Picture 9" descr="星08"/>
          <p:cNvPicPr/>
          <p:nvPr/>
        </p:nvPicPr>
        <p:blipFill>
          <a:blip r:embed="rId10"/>
          <a:stretch/>
        </p:blipFill>
        <p:spPr>
          <a:xfrm>
            <a:off x="676440" y="987480"/>
            <a:ext cx="1258560" cy="790560"/>
          </a:xfrm>
          <a:prstGeom prst="rect">
            <a:avLst/>
          </a:prstGeom>
          <a:ln w="0">
            <a:noFill/>
          </a:ln>
        </p:spPr>
      </p:pic>
      <p:pic>
        <p:nvPicPr>
          <p:cNvPr id="1594" name="Picture 10" descr="星08"/>
          <p:cNvPicPr/>
          <p:nvPr/>
        </p:nvPicPr>
        <p:blipFill>
          <a:blip r:embed="rId11"/>
          <a:stretch/>
        </p:blipFill>
        <p:spPr>
          <a:xfrm>
            <a:off x="7451640" y="5229360"/>
            <a:ext cx="884160" cy="884160"/>
          </a:xfrm>
          <a:prstGeom prst="rect">
            <a:avLst/>
          </a:prstGeom>
          <a:ln w="0">
            <a:noFill/>
          </a:ln>
        </p:spPr>
      </p:pic>
      <p:pic>
        <p:nvPicPr>
          <p:cNvPr id="1595" name="Picture 11" descr="星08"/>
          <p:cNvPicPr/>
          <p:nvPr/>
        </p:nvPicPr>
        <p:blipFill>
          <a:blip r:embed="rId12"/>
          <a:stretch/>
        </p:blipFill>
        <p:spPr>
          <a:xfrm>
            <a:off x="7588080" y="5740560"/>
            <a:ext cx="1258920" cy="790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afterEffect" fill="hold" presetClass="entr" presetID="19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0" fill="hold"/>
                                        <p:tgtEl>
                                          <p:spTgt spid="15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0" fill="hold"/>
                                        <p:tgtEl>
                                          <p:spTgt spid="15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dur="indefinite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star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3000" fill="hold"/>
                                        <p:tgtEl>
                                          <p:spTgt spid="15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3000" fill="hold"/>
                                        <p:tgtEl>
                                          <p:spTgt spid="15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3000" fill="hold"/>
                                        <p:tgtEl>
                                          <p:spTgt spid="1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3000" fill="hold"/>
                                        <p:tgtEl>
                                          <p:spTgt spid="1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000000"/>
                </a:solidFill>
                <a:latin typeface="宋体"/>
              </a:rPr>
              <a:t>一、问题引入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5" name="组合 20482"/>
          <p:cNvGrpSpPr/>
          <p:nvPr/>
        </p:nvGrpSpPr>
        <p:grpSpPr>
          <a:xfrm>
            <a:off x="565200" y="1535040"/>
            <a:ext cx="4835520" cy="3263760"/>
            <a:chOff x="565200" y="1535040"/>
            <a:chExt cx="4835520" cy="3263760"/>
          </a:xfrm>
        </p:grpSpPr>
        <p:pic>
          <p:nvPicPr>
            <p:cNvPr id="1486" name="图片 20483" descr="53"/>
            <p:cNvPicPr/>
            <p:nvPr/>
          </p:nvPicPr>
          <p:blipFill>
            <a:blip r:embed="rId1"/>
            <a:stretch/>
          </p:blipFill>
          <p:spPr>
            <a:xfrm>
              <a:off x="2565720" y="2639880"/>
              <a:ext cx="2835000" cy="215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7" name="AutoShape 27"/>
            <p:cNvSpPr/>
            <p:nvPr/>
          </p:nvSpPr>
          <p:spPr>
            <a:xfrm>
              <a:off x="565200" y="1535040"/>
              <a:ext cx="2737080" cy="1295280"/>
            </a:xfrm>
            <a:prstGeom prst="wedgeRoundRectCallout">
              <a:avLst>
                <a:gd name="adj1" fmla="val 38745"/>
                <a:gd name="adj2" fmla="val 58699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圆桌和菜板都有点开裂，需要在它们的边缘箍上一圈铁皮。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1488" name="组合 20485"/>
          <p:cNvGrpSpPr/>
          <p:nvPr/>
        </p:nvGrpSpPr>
        <p:grpSpPr>
          <a:xfrm>
            <a:off x="4995720" y="2278080"/>
            <a:ext cx="2710080" cy="2663280"/>
            <a:chOff x="4995720" y="2278080"/>
            <a:chExt cx="2710080" cy="2663280"/>
          </a:xfrm>
        </p:grpSpPr>
        <p:pic>
          <p:nvPicPr>
            <p:cNvPr id="1489" name="图片 20486" descr="54"/>
            <p:cNvPicPr/>
            <p:nvPr/>
          </p:nvPicPr>
          <p:blipFill>
            <a:blip r:embed="rId2"/>
            <a:stretch/>
          </p:blipFill>
          <p:spPr>
            <a:xfrm>
              <a:off x="6578640" y="2422080"/>
              <a:ext cx="1127160" cy="25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0" name="AutoShape 27"/>
            <p:cNvSpPr/>
            <p:nvPr/>
          </p:nvSpPr>
          <p:spPr>
            <a:xfrm>
              <a:off x="4995720" y="2278080"/>
              <a:ext cx="1873440" cy="936360"/>
            </a:xfrm>
            <a:prstGeom prst="wedgeRoundRectCallout">
              <a:avLst>
                <a:gd name="adj1" fmla="val 56018"/>
                <a:gd name="adj2" fmla="val 42712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分别需要多长的铁皮啊？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1491" name="组合 20488"/>
          <p:cNvGrpSpPr/>
          <p:nvPr/>
        </p:nvGrpSpPr>
        <p:grpSpPr>
          <a:xfrm>
            <a:off x="539640" y="4869000"/>
            <a:ext cx="3961080" cy="1414440"/>
            <a:chOff x="539640" y="4869000"/>
            <a:chExt cx="3961080" cy="1414440"/>
          </a:xfrm>
        </p:grpSpPr>
        <p:pic>
          <p:nvPicPr>
            <p:cNvPr id="1492" name="Picture 20" descr="男天使副本"/>
            <p:cNvPicPr/>
            <p:nvPr/>
          </p:nvPicPr>
          <p:blipFill>
            <a:blip r:embed="rId3"/>
            <a:stretch/>
          </p:blipFill>
          <p:spPr>
            <a:xfrm>
              <a:off x="539640" y="4869000"/>
              <a:ext cx="1524240" cy="14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3" name="AutoShape 27"/>
            <p:cNvSpPr/>
            <p:nvPr/>
          </p:nvSpPr>
          <p:spPr>
            <a:xfrm>
              <a:off x="2195640" y="5372280"/>
              <a:ext cx="2305080" cy="792000"/>
            </a:xfrm>
            <a:prstGeom prst="wedgeRoundRectCallout">
              <a:avLst>
                <a:gd name="adj1" fmla="val -56953"/>
                <a:gd name="adj2" fmla="val -1504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同学们，你们有办法解决吗？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1494" name="矩形 20491"/>
          <p:cNvSpPr/>
          <p:nvPr/>
        </p:nvSpPr>
        <p:spPr>
          <a:xfrm>
            <a:off x="630000" y="4143240"/>
            <a:ext cx="62892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绿色圃中小学教育网</a:t>
            </a:r>
            <a:r>
              <a:rPr b="0" i="1" lang="en-US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http://www.lspjy.com</a:t>
            </a:r>
            <a:endParaRPr b="0" i="1" lang="en-US" sz="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95" name="矩形 20492"/>
          <p:cNvSpPr/>
          <p:nvPr/>
        </p:nvSpPr>
        <p:spPr>
          <a:xfrm>
            <a:off x="846000" y="4359240"/>
            <a:ext cx="62892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绿色圃中小学教育网</a:t>
            </a:r>
            <a:r>
              <a:rPr b="0" i="1" lang="en-US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http://www.lspjy.com</a:t>
            </a:r>
            <a:endParaRPr b="0" i="1" lang="en-US" sz="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96" name="矩形 20493"/>
          <p:cNvSpPr/>
          <p:nvPr/>
        </p:nvSpPr>
        <p:spPr>
          <a:xfrm>
            <a:off x="1061640" y="4575240"/>
            <a:ext cx="62892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绿色圃中小学教育网</a:t>
            </a:r>
            <a:r>
              <a:rPr b="0" i="1" lang="en-US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http://www.lspjy.com</a:t>
            </a:r>
            <a:endParaRPr b="0" i="1" lang="en-US" sz="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1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7" name="Rectangle 2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二、探究新知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98" name="TextBox 6"/>
          <p:cNvSpPr/>
          <p:nvPr/>
        </p:nvSpPr>
        <p:spPr>
          <a:xfrm>
            <a:off x="457200" y="1628640"/>
            <a:ext cx="3782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（一）测量圆周长</a:t>
            </a:r>
            <a:endParaRPr b="0" i="1" lang="en-US" sz="3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1499" name="ShockwaveFlash1" descr=""/>
          <p:cNvPicPr/>
          <p:nvPr/>
        </p:nvPicPr>
        <p:blipFill>
          <a:blip r:embed="rId1"/>
          <a:stretch/>
        </p:blipFill>
        <p:spPr>
          <a:xfrm>
            <a:off x="1692360" y="2205000"/>
            <a:ext cx="5883120" cy="4413240"/>
          </a:xfrm>
          <a:prstGeom prst="rect">
            <a:avLst/>
          </a:prstGeom>
          <a:ln w="0">
            <a:noFill/>
          </a:ln>
        </p:spPr>
      </p:pic>
      <p:pic>
        <p:nvPicPr>
          <p:cNvPr id="1500" name="图片 21508" descr=""/>
          <p:cNvPicPr/>
          <p:nvPr/>
        </p:nvPicPr>
        <p:blipFill>
          <a:blip r:embed="rId2"/>
          <a:stretch/>
        </p:blipFill>
        <p:spPr>
          <a:xfrm>
            <a:off x="1692360" y="2205000"/>
            <a:ext cx="5933880" cy="441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1" name="ShockwaveFlash1" descr=""/>
          <p:cNvPicPr/>
          <p:nvPr/>
        </p:nvPicPr>
        <p:blipFill>
          <a:blip r:embed="rId1"/>
          <a:stretch/>
        </p:blipFill>
        <p:spPr>
          <a:xfrm>
            <a:off x="1763640" y="2236680"/>
            <a:ext cx="5813640" cy="4361040"/>
          </a:xfrm>
          <a:prstGeom prst="rect">
            <a:avLst/>
          </a:prstGeom>
          <a:ln w="0">
            <a:noFill/>
          </a:ln>
        </p:spPr>
      </p:pic>
      <p:sp>
        <p:nvSpPr>
          <p:cNvPr id="1502" name="Rectangle 2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二、探究新知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03" name="TextBox 9"/>
          <p:cNvSpPr/>
          <p:nvPr/>
        </p:nvSpPr>
        <p:spPr>
          <a:xfrm>
            <a:off x="457200" y="1628640"/>
            <a:ext cx="3782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（一）测量圆周长</a:t>
            </a:r>
            <a:endParaRPr b="0" i="1" lang="en-US" sz="3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1504" name="图片 22532" descr=""/>
          <p:cNvPicPr/>
          <p:nvPr/>
        </p:nvPicPr>
        <p:blipFill>
          <a:blip r:embed="rId2"/>
          <a:stretch/>
        </p:blipFill>
        <p:spPr>
          <a:xfrm>
            <a:off x="1754280" y="2214720"/>
            <a:ext cx="5819760" cy="4381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Rectangle 2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二、探究新知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06" name="TextBox 9"/>
          <p:cNvSpPr/>
          <p:nvPr/>
        </p:nvSpPr>
        <p:spPr>
          <a:xfrm>
            <a:off x="457200" y="1413000"/>
            <a:ext cx="3782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（一）测量圆周长</a:t>
            </a:r>
            <a:endParaRPr b="0" i="1" lang="en-US" sz="3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1507" name="组合 23555"/>
          <p:cNvGrpSpPr/>
          <p:nvPr/>
        </p:nvGrpSpPr>
        <p:grpSpPr>
          <a:xfrm>
            <a:off x="971640" y="2492280"/>
            <a:ext cx="5761080" cy="1584360"/>
            <a:chOff x="971640" y="2492280"/>
            <a:chExt cx="5761080" cy="1584360"/>
          </a:xfrm>
        </p:grpSpPr>
        <p:pic>
          <p:nvPicPr>
            <p:cNvPr id="1508" name="Picture 20" descr="男天使副本"/>
            <p:cNvPicPr/>
            <p:nvPr/>
          </p:nvPicPr>
          <p:blipFill>
            <a:blip r:embed="rId1"/>
            <a:stretch/>
          </p:blipFill>
          <p:spPr>
            <a:xfrm>
              <a:off x="971640" y="2492280"/>
              <a:ext cx="1524240" cy="14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9" name="AutoShape 27"/>
            <p:cNvSpPr/>
            <p:nvPr/>
          </p:nvSpPr>
          <p:spPr>
            <a:xfrm>
              <a:off x="2627640" y="2995560"/>
              <a:ext cx="4105080" cy="1081080"/>
            </a:xfrm>
            <a:prstGeom prst="wedgeRoundRectCallout">
              <a:avLst>
                <a:gd name="adj1" fmla="val -53907"/>
                <a:gd name="adj2" fmla="val -14462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像这样，围成圆的曲线的长是圆的周长。除了上面的方法，还可以怎样求圆的周长呢？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1510" name="组合 23558"/>
          <p:cNvGrpSpPr/>
          <p:nvPr/>
        </p:nvGrpSpPr>
        <p:grpSpPr>
          <a:xfrm>
            <a:off x="1979640" y="4362480"/>
            <a:ext cx="5840280" cy="1803240"/>
            <a:chOff x="1979640" y="4362480"/>
            <a:chExt cx="5840280" cy="1803240"/>
          </a:xfrm>
        </p:grpSpPr>
        <p:pic>
          <p:nvPicPr>
            <p:cNvPr id="1511" name="图片 23559" descr="55"/>
            <p:cNvPicPr/>
            <p:nvPr/>
          </p:nvPicPr>
          <p:blipFill>
            <a:blip r:embed="rId2"/>
            <a:stretch/>
          </p:blipFill>
          <p:spPr>
            <a:xfrm>
              <a:off x="6732720" y="4362480"/>
              <a:ext cx="1087200" cy="180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2" name="AutoShape 27"/>
            <p:cNvSpPr/>
            <p:nvPr/>
          </p:nvSpPr>
          <p:spPr>
            <a:xfrm>
              <a:off x="1979640" y="4581360"/>
              <a:ext cx="4464000" cy="936720"/>
            </a:xfrm>
            <a:prstGeom prst="wedgeRoundRectCallout">
              <a:avLst>
                <a:gd name="adj1" fmla="val 55546"/>
                <a:gd name="adj2" fmla="val -3898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圆的周长和圆的大小有关系，圆的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大小取决于圆的半径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宋体"/>
                  <a:ea typeface="宋体"/>
                </a:rPr>
                <a:t>……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1513" name="矩形 23561"/>
          <p:cNvSpPr/>
          <p:nvPr/>
        </p:nvSpPr>
        <p:spPr>
          <a:xfrm>
            <a:off x="630000" y="4143240"/>
            <a:ext cx="62892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绿色圃中小学教育网</a:t>
            </a:r>
            <a:r>
              <a:rPr b="0" i="1" lang="en-US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http://www.lspjy.com</a:t>
            </a:r>
            <a:endParaRPr b="0" i="1" lang="en-US" sz="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14" name="矩形 23562"/>
          <p:cNvSpPr/>
          <p:nvPr/>
        </p:nvSpPr>
        <p:spPr>
          <a:xfrm>
            <a:off x="846000" y="4359240"/>
            <a:ext cx="62892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绿色圃中小学教育网</a:t>
            </a:r>
            <a:r>
              <a:rPr b="0" i="1" lang="en-US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http://www.lspjy.com</a:t>
            </a:r>
            <a:endParaRPr b="0" i="1" lang="en-US" sz="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15" name="矩形 23563"/>
          <p:cNvSpPr/>
          <p:nvPr/>
        </p:nvSpPr>
        <p:spPr>
          <a:xfrm>
            <a:off x="1061640" y="4575240"/>
            <a:ext cx="62892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绿色圃中小学教育网</a:t>
            </a:r>
            <a:r>
              <a:rPr b="0" i="1" lang="en-US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http://www.lspjy.com</a:t>
            </a:r>
            <a:endParaRPr b="0" i="1" lang="en-US" sz="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16" name="矩形 23564"/>
          <p:cNvSpPr/>
          <p:nvPr/>
        </p:nvSpPr>
        <p:spPr>
          <a:xfrm>
            <a:off x="1277640" y="4791240"/>
            <a:ext cx="62892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绿色圃中小学教育网</a:t>
            </a:r>
            <a:r>
              <a:rPr b="0" i="1" lang="en-US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http://www.lspjy.com</a:t>
            </a:r>
            <a:endParaRPr b="0" i="1" lang="en-US" sz="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" dur="500"/>
                                        <p:tgtEl>
                                          <p:spTgt spid="1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2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二、探究新知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18" name="TextBox 16"/>
          <p:cNvSpPr/>
          <p:nvPr/>
        </p:nvSpPr>
        <p:spPr>
          <a:xfrm>
            <a:off x="458640" y="1413000"/>
            <a:ext cx="6202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（二）探究圆周长与直径的关系</a:t>
            </a:r>
            <a:endParaRPr b="0" i="1" lang="en-US" sz="3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1519" name="组合 24579"/>
          <p:cNvGrpSpPr/>
          <p:nvPr/>
        </p:nvGrpSpPr>
        <p:grpSpPr>
          <a:xfrm>
            <a:off x="-36360" y="1744560"/>
            <a:ext cx="6624000" cy="1916280"/>
            <a:chOff x="-36360" y="1744560"/>
            <a:chExt cx="6624000" cy="1916280"/>
          </a:xfrm>
        </p:grpSpPr>
        <p:pic>
          <p:nvPicPr>
            <p:cNvPr id="1520" name="Picture 20" descr="男天使副本"/>
            <p:cNvPicPr/>
            <p:nvPr/>
          </p:nvPicPr>
          <p:blipFill>
            <a:blip r:embed="rId1"/>
            <a:stretch/>
          </p:blipFill>
          <p:spPr>
            <a:xfrm>
              <a:off x="-36360" y="1744560"/>
              <a:ext cx="1523880" cy="14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1" name="AutoShape 27"/>
            <p:cNvSpPr/>
            <p:nvPr/>
          </p:nvSpPr>
          <p:spPr>
            <a:xfrm>
              <a:off x="1726920" y="1960560"/>
              <a:ext cx="4860720" cy="1700280"/>
            </a:xfrm>
            <a:prstGeom prst="wedgeRoundRectCallout">
              <a:avLst>
                <a:gd name="adj1" fmla="val -55847"/>
                <a:gd name="adj2" fmla="val -20120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让我们来做一个实验：找一些圆形的物品，分别量出它们的周长和直径，并算出周长和直径的比值，把结果填入下表中，看看有什么发现。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1522" name="组合 24582"/>
          <p:cNvGrpSpPr/>
          <p:nvPr/>
        </p:nvGrpSpPr>
        <p:grpSpPr>
          <a:xfrm>
            <a:off x="-36360" y="1700280"/>
            <a:ext cx="5905440" cy="1511280"/>
            <a:chOff x="-36360" y="1700280"/>
            <a:chExt cx="5905440" cy="1511280"/>
          </a:xfrm>
        </p:grpSpPr>
        <p:pic>
          <p:nvPicPr>
            <p:cNvPr id="1523" name="Picture 20" descr="男天使副本"/>
            <p:cNvPicPr/>
            <p:nvPr/>
          </p:nvPicPr>
          <p:blipFill>
            <a:blip r:embed="rId2"/>
            <a:stretch/>
          </p:blipFill>
          <p:spPr>
            <a:xfrm>
              <a:off x="-36360" y="1700280"/>
              <a:ext cx="1524240" cy="14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4" name="AutoShape 27"/>
            <p:cNvSpPr/>
            <p:nvPr/>
          </p:nvSpPr>
          <p:spPr>
            <a:xfrm>
              <a:off x="1619640" y="2276280"/>
              <a:ext cx="4249440" cy="935280"/>
            </a:xfrm>
            <a:prstGeom prst="wedgeRoundRectCallout">
              <a:avLst>
                <a:gd name="adj1" fmla="val -56236"/>
                <a:gd name="adj2" fmla="val -1782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原来一个圆的周长总是它的直径的</a:t>
              </a:r>
              <a:r>
                <a:rPr b="0" i="1" lang="en-US" sz="2000" spc="-1" strike="noStrike" u="sng">
                  <a:solidFill>
                    <a:srgbClr val="ff0000"/>
                  </a:solidFill>
                  <a:uFillTx/>
                  <a:latin typeface="Arial"/>
                  <a:ea typeface="楷体_GB2312"/>
                </a:rPr>
                <a:t>3</a:t>
              </a:r>
              <a:r>
                <a:rPr b="0" i="1" lang="zh-CN" sz="2000" spc="-1" strike="noStrike" u="sng">
                  <a:solidFill>
                    <a:srgbClr val="ff0000"/>
                  </a:solidFill>
                  <a:uFillTx/>
                  <a:latin typeface="楷体_GB2312"/>
                  <a:ea typeface="楷体_GB2312"/>
                </a:rPr>
                <a:t>倍多一些。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aphicFrame>
        <p:nvGraphicFramePr>
          <p:cNvPr id="1525" name=""/>
          <p:cNvGraphicFramePr/>
          <p:nvPr/>
        </p:nvGraphicFramePr>
        <p:xfrm>
          <a:off x="1403280" y="3745080"/>
          <a:ext cx="6913440" cy="3419280"/>
        </p:xfrm>
        <a:graphic>
          <a:graphicData uri="http://schemas.openxmlformats.org/drawingml/2006/table">
            <a:tbl>
              <a:tblPr/>
              <a:tblGrid>
                <a:gridCol w="1523880"/>
                <a:gridCol w="1524240"/>
                <a:gridCol w="1523880"/>
                <a:gridCol w="2341440"/>
              </a:tblGrid>
              <a:tr h="1343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2400" spc="-1" strike="noStrike" u="sng">
                          <a:solidFill>
                            <a:srgbClr val="000000"/>
                          </a:solidFill>
                          <a:uFillTx/>
                          <a:latin typeface="宋体"/>
                          <a:ea typeface="宋体"/>
                        </a:rPr>
                        <a:t>物品名称</a:t>
                      </a:r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2400" spc="-1" strike="noStrike" u="sng">
                          <a:solidFill>
                            <a:srgbClr val="000000"/>
                          </a:solidFill>
                          <a:uFillTx/>
                          <a:latin typeface="宋体"/>
                          <a:ea typeface="宋体"/>
                        </a:rPr>
                        <a:t>周长</a:t>
                      </a:r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2400" spc="-1" strike="noStrike" u="sng">
                          <a:solidFill>
                            <a:srgbClr val="000000"/>
                          </a:solidFill>
                          <a:uFillTx/>
                          <a:latin typeface="宋体"/>
                          <a:ea typeface="宋体"/>
                        </a:rPr>
                        <a:t>直径</a:t>
                      </a:r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2400" spc="-1" strike="noStrike" u="sng">
                          <a:solidFill>
                            <a:srgbClr val="000000"/>
                          </a:solidFill>
                          <a:uFillTx/>
                          <a:latin typeface="宋体"/>
                          <a:ea typeface="宋体"/>
                        </a:rPr>
                        <a:t>   </a:t>
                      </a:r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2400" spc="-1" strike="noStrike" u="sng">
                          <a:solidFill>
                            <a:srgbClr val="000000"/>
                          </a:solidFill>
                          <a:uFillTx/>
                          <a:latin typeface="宋体"/>
                          <a:ea typeface="宋体"/>
                        </a:rPr>
                        <a:t>（保留两位小数）</a:t>
                      </a:r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526" name="组合 24617"/>
          <p:cNvGrpSpPr/>
          <p:nvPr/>
        </p:nvGrpSpPr>
        <p:grpSpPr>
          <a:xfrm>
            <a:off x="6294600" y="3716280"/>
            <a:ext cx="1657080" cy="843840"/>
            <a:chOff x="6294600" y="3716280"/>
            <a:chExt cx="1657080" cy="843840"/>
          </a:xfrm>
        </p:grpSpPr>
        <p:grpSp>
          <p:nvGrpSpPr>
            <p:cNvPr id="1527" name="组合 24618"/>
            <p:cNvGrpSpPr/>
            <p:nvPr/>
          </p:nvGrpSpPr>
          <p:grpSpPr>
            <a:xfrm>
              <a:off x="6294600" y="3716280"/>
              <a:ext cx="782640" cy="843840"/>
              <a:chOff x="6294600" y="3716280"/>
              <a:chExt cx="782640" cy="843840"/>
            </a:xfrm>
          </p:grpSpPr>
          <p:sp>
            <p:nvSpPr>
              <p:cNvPr id="1528" name="文本框 24619"/>
              <p:cNvSpPr/>
              <p:nvPr/>
            </p:nvSpPr>
            <p:spPr>
              <a:xfrm>
                <a:off x="6294600" y="4100400"/>
                <a:ext cx="71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zh-CN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宋体"/>
                  </a:rPr>
                  <a:t>直径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529" name="文本框 24620"/>
              <p:cNvSpPr/>
              <p:nvPr/>
            </p:nvSpPr>
            <p:spPr>
              <a:xfrm>
                <a:off x="6320160" y="3716280"/>
                <a:ext cx="757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zh-CN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宋体"/>
                  </a:rPr>
                  <a:t>周长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530" name="直接连接符 24621"/>
              <p:cNvSpPr/>
              <p:nvPr/>
            </p:nvSpPr>
            <p:spPr>
              <a:xfrm>
                <a:off x="6391440" y="4173480"/>
                <a:ext cx="5144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sp>
          <p:nvSpPr>
            <p:cNvPr id="1531" name="文本框 24622"/>
            <p:cNvSpPr/>
            <p:nvPr/>
          </p:nvSpPr>
          <p:spPr>
            <a:xfrm>
              <a:off x="6872400" y="3917520"/>
              <a:ext cx="1079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宋体"/>
                  <a:ea typeface="宋体"/>
                </a:rPr>
                <a:t>的比值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1532" name="组合 24623"/>
          <p:cNvGrpSpPr/>
          <p:nvPr/>
        </p:nvGrpSpPr>
        <p:grpSpPr>
          <a:xfrm>
            <a:off x="1441440" y="4925880"/>
            <a:ext cx="6424560" cy="1837440"/>
            <a:chOff x="1441440" y="4925880"/>
            <a:chExt cx="6424560" cy="1837440"/>
          </a:xfrm>
        </p:grpSpPr>
        <p:sp>
          <p:nvSpPr>
            <p:cNvPr id="1533" name="文本框 24624"/>
            <p:cNvSpPr/>
            <p:nvPr/>
          </p:nvSpPr>
          <p:spPr>
            <a:xfrm>
              <a:off x="1673280" y="4925880"/>
              <a:ext cx="1079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宋体"/>
                  <a:ea typeface="宋体"/>
                </a:rPr>
                <a:t>茶杯盖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534" name="文本框 24625"/>
            <p:cNvSpPr/>
            <p:nvPr/>
          </p:nvSpPr>
          <p:spPr>
            <a:xfrm>
              <a:off x="3205080" y="4935600"/>
              <a:ext cx="1231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28.3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Times New Roman"/>
                  <a:ea typeface="宋体"/>
                </a:rPr>
                <a:t>cm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535" name="文本框 24626"/>
            <p:cNvSpPr/>
            <p:nvPr/>
          </p:nvSpPr>
          <p:spPr>
            <a:xfrm>
              <a:off x="4859280" y="4944960"/>
              <a:ext cx="1231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9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Times New Roman"/>
                  <a:ea typeface="宋体"/>
                </a:rPr>
                <a:t>cm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536" name="文本框 24627"/>
            <p:cNvSpPr/>
            <p:nvPr/>
          </p:nvSpPr>
          <p:spPr>
            <a:xfrm>
              <a:off x="6742080" y="4925880"/>
              <a:ext cx="1079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3.14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537" name="文本框 24628"/>
            <p:cNvSpPr/>
            <p:nvPr/>
          </p:nvSpPr>
          <p:spPr>
            <a:xfrm>
              <a:off x="1782720" y="5464080"/>
              <a:ext cx="1079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宋体"/>
                  <a:ea typeface="宋体"/>
                </a:rPr>
                <a:t>光盘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538" name="文本框 24629"/>
            <p:cNvSpPr/>
            <p:nvPr/>
          </p:nvSpPr>
          <p:spPr>
            <a:xfrm>
              <a:off x="3147840" y="5477040"/>
              <a:ext cx="1231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37.85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Times New Roman"/>
                  <a:ea typeface="宋体"/>
                </a:rPr>
                <a:t>cm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539" name="文本框 24630"/>
            <p:cNvSpPr/>
            <p:nvPr/>
          </p:nvSpPr>
          <p:spPr>
            <a:xfrm>
              <a:off x="4732200" y="5454720"/>
              <a:ext cx="1231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12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Times New Roman"/>
                  <a:ea typeface="宋体"/>
                </a:rPr>
                <a:t>cm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540" name="文本框 24631"/>
            <p:cNvSpPr/>
            <p:nvPr/>
          </p:nvSpPr>
          <p:spPr>
            <a:xfrm>
              <a:off x="6742080" y="5429160"/>
              <a:ext cx="1079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3.15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541" name="文本框 24632"/>
            <p:cNvSpPr/>
            <p:nvPr/>
          </p:nvSpPr>
          <p:spPr>
            <a:xfrm>
              <a:off x="1792440" y="5931000"/>
              <a:ext cx="1079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宋体"/>
                  <a:ea typeface="宋体"/>
                </a:rPr>
                <a:t>硬币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542" name="文本框 24633"/>
            <p:cNvSpPr/>
            <p:nvPr/>
          </p:nvSpPr>
          <p:spPr>
            <a:xfrm>
              <a:off x="3195720" y="5943600"/>
              <a:ext cx="1231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7.85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Times New Roman"/>
                  <a:ea typeface="宋体"/>
                </a:rPr>
                <a:t>cm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543" name="文本框 24634"/>
            <p:cNvSpPr/>
            <p:nvPr/>
          </p:nvSpPr>
          <p:spPr>
            <a:xfrm>
              <a:off x="4741920" y="5921280"/>
              <a:ext cx="1231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2.5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Times New Roman"/>
                  <a:ea typeface="宋体"/>
                </a:rPr>
                <a:t>cm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544" name="文本框 24635"/>
            <p:cNvSpPr/>
            <p:nvPr/>
          </p:nvSpPr>
          <p:spPr>
            <a:xfrm>
              <a:off x="6751800" y="5896080"/>
              <a:ext cx="1079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3.14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545" name="文本框 24636"/>
            <p:cNvSpPr/>
            <p:nvPr/>
          </p:nvSpPr>
          <p:spPr>
            <a:xfrm>
              <a:off x="1441440" y="6364440"/>
              <a:ext cx="165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宋体"/>
                  <a:ea typeface="宋体"/>
                </a:rPr>
                <a:t>玩具车车轮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546" name="文本框 24637"/>
            <p:cNvSpPr/>
            <p:nvPr/>
          </p:nvSpPr>
          <p:spPr>
            <a:xfrm>
              <a:off x="3186000" y="6357960"/>
              <a:ext cx="1231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23.5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Times New Roman"/>
                  <a:ea typeface="宋体"/>
                </a:rPr>
                <a:t>cm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547" name="文本框 24638"/>
            <p:cNvSpPr/>
            <p:nvPr/>
          </p:nvSpPr>
          <p:spPr>
            <a:xfrm>
              <a:off x="4751280" y="6345360"/>
              <a:ext cx="1231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7.5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Times New Roman"/>
                  <a:ea typeface="宋体"/>
                </a:rPr>
                <a:t>cm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548" name="文本框 24639"/>
            <p:cNvSpPr/>
            <p:nvPr/>
          </p:nvSpPr>
          <p:spPr>
            <a:xfrm>
              <a:off x="6786720" y="6345360"/>
              <a:ext cx="1079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3.13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1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Rectangle 2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二、探究新知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50" name="Rectangle 86"/>
          <p:cNvSpPr/>
          <p:nvPr/>
        </p:nvSpPr>
        <p:spPr>
          <a:xfrm>
            <a:off x="1763640" y="4581360"/>
            <a:ext cx="535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如果用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C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表示圆的周长，就有：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1551" name="Object 29" descr=""/>
          <p:cNvPicPr/>
          <p:nvPr/>
        </p:nvPicPr>
        <p:blipFill>
          <a:blip r:embed="rId1"/>
          <a:stretch/>
        </p:blipFill>
        <p:spPr>
          <a:xfrm>
            <a:off x="4514760" y="3465360"/>
            <a:ext cx="114480" cy="216000"/>
          </a:xfrm>
          <a:prstGeom prst="rect">
            <a:avLst/>
          </a:prstGeom>
          <a:ln w="0">
            <a:noFill/>
          </a:ln>
        </p:spPr>
      </p:pic>
      <p:grpSp>
        <p:nvGrpSpPr>
          <p:cNvPr id="1552" name="组合 26628"/>
          <p:cNvGrpSpPr/>
          <p:nvPr/>
        </p:nvGrpSpPr>
        <p:grpSpPr>
          <a:xfrm>
            <a:off x="3236760" y="5165640"/>
            <a:ext cx="3063600" cy="452520"/>
            <a:chOff x="3236760" y="5165640"/>
            <a:chExt cx="3063600" cy="452520"/>
          </a:xfrm>
        </p:grpSpPr>
        <p:sp>
          <p:nvSpPr>
            <p:cNvPr id="1553" name="矩形 4"/>
            <p:cNvSpPr/>
            <p:nvPr/>
          </p:nvSpPr>
          <p:spPr>
            <a:xfrm>
              <a:off x="3236760" y="5165640"/>
              <a:ext cx="1254240" cy="452520"/>
            </a:xfrm>
            <a:prstGeom prst="rect">
              <a:avLst/>
            </a:prstGeom>
            <a:solidFill>
              <a:srgbClr val="66ccff"/>
            </a:solidFill>
            <a:ln w="6480">
              <a:solidFill>
                <a:srgbClr val="e2e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554" name="矩形 16"/>
            <p:cNvSpPr/>
            <p:nvPr/>
          </p:nvSpPr>
          <p:spPr>
            <a:xfrm>
              <a:off x="5046120" y="5165640"/>
              <a:ext cx="1254240" cy="452520"/>
            </a:xfrm>
            <a:prstGeom prst="rect">
              <a:avLst/>
            </a:prstGeom>
            <a:solidFill>
              <a:srgbClr val="66ccff"/>
            </a:solidFill>
            <a:ln w="6480">
              <a:solidFill>
                <a:srgbClr val="e2e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555" name="矩形 3"/>
            <p:cNvSpPr/>
            <p:nvPr/>
          </p:nvSpPr>
          <p:spPr>
            <a:xfrm>
              <a:off x="3451320" y="5165640"/>
              <a:ext cx="2545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Times New Roman"/>
                  <a:ea typeface="宋体"/>
                </a:rPr>
                <a:t>C 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＝</a:t>
              </a:r>
              <a:r>
                <a:rPr b="0" i="1" lang="el-GR" sz="2000" spc="-1" strike="noStrike" u="sng">
                  <a:solidFill>
                    <a:srgbClr val="000000"/>
                  </a:solidFill>
                  <a:uFillTx/>
                  <a:latin typeface="Times New Roman"/>
                  <a:ea typeface="楷体_GB2312"/>
                </a:rPr>
                <a:t>π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Times New Roman"/>
                  <a:ea typeface="楷体_GB2312"/>
                </a:rPr>
                <a:t>d      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宋体"/>
                  <a:ea typeface="宋体"/>
                </a:rPr>
                <a:t>或  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Times New Roman"/>
                  <a:ea typeface="宋体"/>
                </a:rPr>
                <a:t>C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Times New Roman"/>
                  <a:ea typeface="楷体_GB2312"/>
                </a:rPr>
                <a:t>＝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2</a:t>
              </a:r>
              <a:r>
                <a:rPr b="0" i="1" lang="el-GR" sz="2000" spc="-1" strike="noStrike" u="sng">
                  <a:solidFill>
                    <a:srgbClr val="000000"/>
                  </a:solidFill>
                  <a:uFillTx/>
                  <a:latin typeface="Times New Roman"/>
                  <a:ea typeface="楷体_GB2312"/>
                </a:rPr>
                <a:t>π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Times New Roman"/>
                  <a:ea typeface="楷体_GB2312"/>
                </a:rPr>
                <a:t>r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1556" name="组合 26632"/>
          <p:cNvGrpSpPr/>
          <p:nvPr/>
        </p:nvGrpSpPr>
        <p:grpSpPr>
          <a:xfrm>
            <a:off x="395280" y="1773360"/>
            <a:ext cx="8280360" cy="2303280"/>
            <a:chOff x="395280" y="1773360"/>
            <a:chExt cx="8280360" cy="2303280"/>
          </a:xfrm>
        </p:grpSpPr>
        <p:pic>
          <p:nvPicPr>
            <p:cNvPr id="1557" name="Picture 20" descr="男天使副本"/>
            <p:cNvPicPr/>
            <p:nvPr/>
          </p:nvPicPr>
          <p:blipFill>
            <a:blip r:embed="rId2"/>
            <a:stretch/>
          </p:blipFill>
          <p:spPr>
            <a:xfrm>
              <a:off x="395280" y="1773360"/>
              <a:ext cx="1523880" cy="14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8" name="AutoShape 27"/>
            <p:cNvSpPr/>
            <p:nvPr/>
          </p:nvSpPr>
          <p:spPr>
            <a:xfrm>
              <a:off x="2158920" y="1989360"/>
              <a:ext cx="6516720" cy="2087280"/>
            </a:xfrm>
            <a:prstGeom prst="wedgeRoundRectCallout">
              <a:avLst>
                <a:gd name="adj1" fmla="val -54361"/>
                <a:gd name="adj2" fmla="val -25666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其实，早就有人研究了周长与直径的关系，发现任意一个圆的周长与它的直径的比值是一个固定的数，我们把它叫做</a:t>
              </a:r>
              <a:r>
                <a:rPr b="0" i="1" lang="zh-CN" sz="2000" spc="-1" strike="noStrike" u="sng">
                  <a:solidFill>
                    <a:srgbClr val="ff0000"/>
                  </a:solidFill>
                  <a:uFillTx/>
                  <a:latin typeface="楷体_GB2312"/>
                  <a:ea typeface="楷体_GB2312"/>
                </a:rPr>
                <a:t>圆周率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，用字母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π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表示。它是一个无限不循环小数，</a:t>
              </a:r>
              <a:r>
                <a:rPr b="0" i="1" lang="el-GR" sz="2000" spc="-1" strike="noStrike" u="sng">
                  <a:solidFill>
                    <a:srgbClr val="ff0000"/>
                  </a:solidFill>
                  <a:uFillTx/>
                  <a:latin typeface="Times New Roman"/>
                  <a:ea typeface="楷体_GB2312"/>
                </a:rPr>
                <a:t>π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＝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3.1415926535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宋体"/>
                  <a:ea typeface="宋体"/>
                </a:rPr>
                <a:t>……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但在实际应用中常常只取它的近似值，例如</a:t>
              </a:r>
              <a:r>
                <a:rPr b="0" i="1" lang="el-GR" sz="2000" spc="-1" strike="noStrike" u="sng">
                  <a:solidFill>
                    <a:srgbClr val="ff0000"/>
                  </a:solidFill>
                  <a:uFillTx/>
                  <a:latin typeface="Times New Roman"/>
                  <a:ea typeface="楷体_GB2312"/>
                </a:rPr>
                <a:t>π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≈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3.14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。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1559" name="TextBox 16"/>
          <p:cNvSpPr/>
          <p:nvPr/>
        </p:nvSpPr>
        <p:spPr>
          <a:xfrm>
            <a:off x="458640" y="1413000"/>
            <a:ext cx="6202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（二）探究圆周长与直径的关系</a:t>
            </a:r>
            <a:endParaRPr b="0" i="1" lang="en-US" sz="3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1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TextBox 7"/>
          <p:cNvSpPr/>
          <p:nvPr/>
        </p:nvSpPr>
        <p:spPr>
          <a:xfrm>
            <a:off x="468360" y="4051440"/>
            <a:ext cx="8362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    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这辆自行车轮子转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1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圈，大约可以走多远？（结果保留整米数）小明家离学校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1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km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，骑车从家到学校，轮子大约转了多少圈？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61" name="TextBox 9"/>
          <p:cNvSpPr/>
          <p:nvPr/>
        </p:nvSpPr>
        <p:spPr>
          <a:xfrm>
            <a:off x="2382840" y="5108400"/>
            <a:ext cx="521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2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×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3.14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×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33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＝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207.24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（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cm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）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≈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2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（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m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）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62" name="TextBox 10"/>
          <p:cNvSpPr/>
          <p:nvPr/>
        </p:nvSpPr>
        <p:spPr>
          <a:xfrm>
            <a:off x="2340000" y="5799240"/>
            <a:ext cx="482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1000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楷体_GB2312"/>
              </a:rPr>
              <a:t>÷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2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≈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500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（圈）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63" name="TextBox 11"/>
          <p:cNvSpPr/>
          <p:nvPr/>
        </p:nvSpPr>
        <p:spPr>
          <a:xfrm>
            <a:off x="2340000" y="5472000"/>
            <a:ext cx="482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1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km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＝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1000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m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64" name="TextBox 12"/>
          <p:cNvSpPr/>
          <p:nvPr/>
        </p:nvSpPr>
        <p:spPr>
          <a:xfrm>
            <a:off x="755640" y="6062760"/>
            <a:ext cx="857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答：这辆自行车轮子转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1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圈，大约可以走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2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m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。小明从家到学校，骑车从家到学校，轮子大约转了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500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圈。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65" name="TextBox 13"/>
          <p:cNvSpPr/>
          <p:nvPr/>
        </p:nvSpPr>
        <p:spPr>
          <a:xfrm>
            <a:off x="463680" y="1432080"/>
            <a:ext cx="4043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（三）学习例</a:t>
            </a:r>
            <a:r>
              <a:rPr b="0" i="1" lang="en-US" sz="3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1</a:t>
            </a:r>
            <a:endParaRPr b="0" i="1" lang="en-US" sz="3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1566" name="图片 27655" descr="56"/>
          <p:cNvPicPr/>
          <p:nvPr/>
        </p:nvPicPr>
        <p:blipFill>
          <a:blip r:embed="rId1"/>
          <a:stretch/>
        </p:blipFill>
        <p:spPr>
          <a:xfrm>
            <a:off x="1595520" y="1998720"/>
            <a:ext cx="3876480" cy="2160360"/>
          </a:xfrm>
          <a:prstGeom prst="rect">
            <a:avLst/>
          </a:prstGeom>
          <a:ln w="0">
            <a:noFill/>
          </a:ln>
        </p:spPr>
      </p:pic>
      <p:sp>
        <p:nvSpPr>
          <p:cNvPr id="1567" name="AutoShape 27"/>
          <p:cNvSpPr/>
          <p:nvPr/>
        </p:nvSpPr>
        <p:spPr>
          <a:xfrm>
            <a:off x="5867280" y="2133720"/>
            <a:ext cx="2340000" cy="1295280"/>
          </a:xfrm>
          <a:prstGeom prst="wedgeRoundRectCallout">
            <a:avLst>
              <a:gd name="adj1" fmla="val -62550"/>
              <a:gd name="adj2" fmla="val -13726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这辆自行车后轮轮胎的半径大约是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33cm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。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68" name="矩形 27657"/>
          <p:cNvSpPr/>
          <p:nvPr/>
        </p:nvSpPr>
        <p:spPr>
          <a:xfrm>
            <a:off x="3348000" y="4754520"/>
            <a:ext cx="16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楷体_GB2312"/>
              </a:rPr>
              <a:t>C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Times New Roman"/>
                <a:ea typeface="楷体_GB2312"/>
              </a:rPr>
              <a:t>＝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2</a:t>
            </a:r>
            <a:r>
              <a:rPr b="0" i="1" lang="el-GR" sz="2000" spc="-1" strike="noStrike" u="sng">
                <a:solidFill>
                  <a:srgbClr val="000000"/>
                </a:solidFill>
                <a:uFillTx/>
                <a:latin typeface="Times New Roman"/>
                <a:ea typeface="楷体_GB2312"/>
              </a:rPr>
              <a:t>π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楷体_GB2312"/>
              </a:rPr>
              <a:t>r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69" name="Rectangle 2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二、探究新知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1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1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1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1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1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1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1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Rectangle 2"/>
          <p:cNvSpPr/>
          <p:nvPr/>
        </p:nvSpPr>
        <p:spPr>
          <a:xfrm>
            <a:off x="468360" y="404640"/>
            <a:ext cx="61308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三、知识应用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71" name="TextBox 3"/>
          <p:cNvSpPr/>
          <p:nvPr/>
        </p:nvSpPr>
        <p:spPr>
          <a:xfrm>
            <a:off x="785880" y="1660680"/>
            <a:ext cx="565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1. 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求下面各圆的周长</a:t>
            </a: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。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72" name="TextBox 6"/>
          <p:cNvSpPr/>
          <p:nvPr/>
        </p:nvSpPr>
        <p:spPr>
          <a:xfrm>
            <a:off x="324000" y="4653000"/>
            <a:ext cx="352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2×3.14×3</a:t>
            </a: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楷体_GB2312"/>
                <a:ea typeface="楷体_GB2312"/>
              </a:rPr>
              <a:t>＝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18.84</a:t>
            </a: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（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Times New Roman"/>
                <a:ea typeface="宋体"/>
              </a:rPr>
              <a:t>cm</a:t>
            </a: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）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73" name="TextBox 7"/>
          <p:cNvSpPr/>
          <p:nvPr/>
        </p:nvSpPr>
        <p:spPr>
          <a:xfrm>
            <a:off x="3419640" y="4646520"/>
            <a:ext cx="29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3.14×6</a:t>
            </a: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＝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18.84</a:t>
            </a: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（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Times New Roman"/>
                <a:ea typeface="宋体"/>
              </a:rPr>
              <a:t>cm</a:t>
            </a: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）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74" name="TextBox 8"/>
          <p:cNvSpPr/>
          <p:nvPr/>
        </p:nvSpPr>
        <p:spPr>
          <a:xfrm>
            <a:off x="6130800" y="4654440"/>
            <a:ext cx="348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2×3.14×5</a:t>
            </a: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＝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31.4</a:t>
            </a: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（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Times New Roman"/>
                <a:ea typeface="宋体"/>
              </a:rPr>
              <a:t>cm</a:t>
            </a: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）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1575" name="图片 28678" descr="57"/>
          <p:cNvPicPr/>
          <p:nvPr/>
        </p:nvPicPr>
        <p:blipFill>
          <a:blip r:embed="rId1"/>
          <a:stretch/>
        </p:blipFill>
        <p:spPr>
          <a:xfrm>
            <a:off x="1187280" y="2276640"/>
            <a:ext cx="6726240" cy="1798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1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1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1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1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5T05:58:26Z</dcterms:created>
  <dc:creator/>
  <dc:description/>
  <dc:language>en-US</dc:language>
  <cp:lastModifiedBy>万润仪器贸易公司</cp:lastModifiedBy>
  <dcterms:modified xsi:type="dcterms:W3CDTF">2020-08-21T09:38:59Z</dcterms:modified>
  <cp:revision>31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